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9.jpeg" ContentType="image/jpeg"/>
  <Override PartName="/ppt/media/image3.wmf" ContentType="image/x-wmf"/>
  <Override PartName="/ppt/media/image4.png" ContentType="image/png"/>
  <Override PartName="/ppt/media/image8.jpeg" ContentType="image/jpeg"/>
  <Override PartName="/ppt/media/image13.jpeg" ContentType="image/jpeg"/>
  <Override PartName="/ppt/media/image5.png" ContentType="image/png"/>
  <Override PartName="/ppt/media/image6.png" ContentType="image/png"/>
  <Override PartName="/ppt/media/image12.jpeg" ContentType="image/jpeg"/>
  <Override PartName="/ppt/media/image7.png" ContentType="image/png"/>
  <Override PartName="/ppt/media/image10.jpeg" ContentType="image/jpe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  <p:sldId id="291" r:id="rId44"/>
    <p:sldId id="292" r:id="rId45"/>
    <p:sldId id="293" r:id="rId46"/>
    <p:sldId id="294" r:id="rId47"/>
    <p:sldId id="295" r:id="rId48"/>
    <p:sldId id="296" r:id="rId49"/>
    <p:sldId id="297" r:id="rId50"/>
    <p:sldId id="298" r:id="rId51"/>
    <p:sldId id="299" r:id="rId52"/>
    <p:sldId id="300" r:id="rId53"/>
    <p:sldId id="301" r:id="rId54"/>
    <p:sldId id="302" r:id="rId55"/>
    <p:sldId id="303" r:id="rId56"/>
    <p:sldId id="304" r:id="rId57"/>
    <p:sldId id="305" r:id="rId5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slide" Target="slides/slide36.xml"/><Relationship Id="rId45" Type="http://schemas.openxmlformats.org/officeDocument/2006/relationships/slide" Target="slides/slide37.xml"/><Relationship Id="rId46" Type="http://schemas.openxmlformats.org/officeDocument/2006/relationships/slide" Target="slides/slide38.xml"/><Relationship Id="rId47" Type="http://schemas.openxmlformats.org/officeDocument/2006/relationships/slide" Target="slides/slide39.xml"/><Relationship Id="rId48" Type="http://schemas.openxmlformats.org/officeDocument/2006/relationships/slide" Target="slides/slide40.xml"/><Relationship Id="rId49" Type="http://schemas.openxmlformats.org/officeDocument/2006/relationships/slide" Target="slides/slide41.xml"/><Relationship Id="rId50" Type="http://schemas.openxmlformats.org/officeDocument/2006/relationships/slide" Target="slides/slide42.xml"/><Relationship Id="rId51" Type="http://schemas.openxmlformats.org/officeDocument/2006/relationships/slide" Target="slides/slide43.xml"/><Relationship Id="rId52" Type="http://schemas.openxmlformats.org/officeDocument/2006/relationships/slide" Target="slides/slide44.xml"/><Relationship Id="rId53" Type="http://schemas.openxmlformats.org/officeDocument/2006/relationships/slide" Target="slides/slide45.xml"/><Relationship Id="rId54" Type="http://schemas.openxmlformats.org/officeDocument/2006/relationships/slide" Target="slides/slide46.xml"/><Relationship Id="rId55" Type="http://schemas.openxmlformats.org/officeDocument/2006/relationships/slide" Target="slides/slide47.xml"/><Relationship Id="rId56" Type="http://schemas.openxmlformats.org/officeDocument/2006/relationships/slide" Target="slides/slide48.xml"/><Relationship Id="rId57" Type="http://schemas.openxmlformats.org/officeDocument/2006/relationships/slide" Target="slides/slide49.xml"/><Relationship Id="rId58" Type="http://schemas.openxmlformats.org/officeDocument/2006/relationships/slide" Target="slides/slide50.xml"/><Relationship Id="rId5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20000"/>
              </a:lnSpc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4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" name="Text Box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Text Box 7"/>
          <p:cNvSpPr/>
          <p:nvPr/>
        </p:nvSpPr>
        <p:spPr>
          <a:xfrm>
            <a:off x="3884760" y="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4080" cy="342108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c2c84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 Box 10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sldNum" idx="1"/>
          </p:nvPr>
        </p:nvSpPr>
        <p:spPr>
          <a:xfrm>
            <a:off x="388440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5CE51A-8D6F-4106-95FC-B62FD4E8F2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49A90A-1132-48C5-A476-1BB34C1608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6" name="Text Box 1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9520"/>
                <a:tab algn="l" pos="666720"/>
                <a:tab algn="l" pos="1123920"/>
                <a:tab algn="l" pos="1581120"/>
                <a:tab algn="l" pos="2038320"/>
                <a:tab algn="l" pos="2495520"/>
                <a:tab algn="l" pos="2952720"/>
                <a:tab algn="l" pos="3409920"/>
                <a:tab algn="l" pos="3867120"/>
                <a:tab algn="l" pos="4324320"/>
                <a:tab algn="l" pos="4781520"/>
                <a:tab algn="l" pos="5238720"/>
                <a:tab algn="l" pos="5695920"/>
                <a:tab algn="l" pos="6153120"/>
                <a:tab algn="l" pos="6610320"/>
                <a:tab algn="l" pos="7067520"/>
                <a:tab algn="l" pos="7524720"/>
                <a:tab algn="l" pos="7981920"/>
                <a:tab algn="l" pos="8439120"/>
                <a:tab algn="l" pos="8896320"/>
                <a:tab algn="l" pos="9353520"/>
                <a:tab algn="l" pos="9601200"/>
                <a:tab algn="l" pos="10058400"/>
                <a:tab algn="l" pos="10515600"/>
              </a:tabLst>
            </a:pPr>
            <a:fld id="{A344D12F-0FDE-4F2B-AB13-C0986A82B4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20000"/>
              </a:lnSpc>
              <a:spcAft>
                <a:spcPts val="300"/>
              </a:spcAft>
              <a:buClr>
                <a:srgbClr val="4f81bd"/>
              </a:buClr>
              <a:buFont typeface="Wingdings" charset="2"/>
              <a:buChar char="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508B43-6800-4F23-8F96-C7A02F34EE4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61E3E7-3A84-40EC-9034-8FC43318A1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3" name="Text Box 1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9520"/>
                <a:tab algn="l" pos="666720"/>
                <a:tab algn="l" pos="1123920"/>
                <a:tab algn="l" pos="1581120"/>
                <a:tab algn="l" pos="2038320"/>
                <a:tab algn="l" pos="2495520"/>
                <a:tab algn="l" pos="2952720"/>
                <a:tab algn="l" pos="3409920"/>
                <a:tab algn="l" pos="3867120"/>
                <a:tab algn="l" pos="4324320"/>
                <a:tab algn="l" pos="4781520"/>
                <a:tab algn="l" pos="5238720"/>
                <a:tab algn="l" pos="5695920"/>
                <a:tab algn="l" pos="6153120"/>
                <a:tab algn="l" pos="6610320"/>
                <a:tab algn="l" pos="7067520"/>
                <a:tab algn="l" pos="7524720"/>
                <a:tab algn="l" pos="7981920"/>
                <a:tab algn="l" pos="8439120"/>
                <a:tab algn="l" pos="8896320"/>
                <a:tab algn="l" pos="9353520"/>
                <a:tab algn="l" pos="9601200"/>
                <a:tab algn="l" pos="10058400"/>
                <a:tab algn="l" pos="10515600"/>
              </a:tabLst>
            </a:pPr>
            <a:fld id="{ABCB752D-A25C-4D38-BBE9-3CC29F3908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70067B-6022-45C4-90AD-CC0D3B2D98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7" name="Text Box 1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9520"/>
                <a:tab algn="l" pos="666720"/>
                <a:tab algn="l" pos="1123920"/>
                <a:tab algn="l" pos="1581120"/>
                <a:tab algn="l" pos="2038320"/>
                <a:tab algn="l" pos="2495520"/>
                <a:tab algn="l" pos="2952720"/>
                <a:tab algn="l" pos="3409920"/>
                <a:tab algn="l" pos="3867120"/>
                <a:tab algn="l" pos="4324320"/>
                <a:tab algn="l" pos="4781520"/>
                <a:tab algn="l" pos="5238720"/>
                <a:tab algn="l" pos="5695920"/>
                <a:tab algn="l" pos="6153120"/>
                <a:tab algn="l" pos="6610320"/>
                <a:tab algn="l" pos="7067520"/>
                <a:tab algn="l" pos="7524720"/>
                <a:tab algn="l" pos="7981920"/>
                <a:tab algn="l" pos="8439120"/>
                <a:tab algn="l" pos="8896320"/>
                <a:tab algn="l" pos="9353520"/>
                <a:tab algn="l" pos="9601200"/>
                <a:tab algn="l" pos="10058400"/>
                <a:tab algn="l" pos="10515600"/>
              </a:tabLst>
            </a:pPr>
            <a:fld id="{F09C3F92-B4E2-4EFC-8B2B-C941FF199B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150690-C829-4841-96AA-AC024DDBA8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1" name="Text Box 1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9520"/>
                <a:tab algn="l" pos="666720"/>
                <a:tab algn="l" pos="1123920"/>
                <a:tab algn="l" pos="1581120"/>
                <a:tab algn="l" pos="2038320"/>
                <a:tab algn="l" pos="2495520"/>
                <a:tab algn="l" pos="2952720"/>
                <a:tab algn="l" pos="3409920"/>
                <a:tab algn="l" pos="3867120"/>
                <a:tab algn="l" pos="4324320"/>
                <a:tab algn="l" pos="4781520"/>
                <a:tab algn="l" pos="5238720"/>
                <a:tab algn="l" pos="5695920"/>
                <a:tab algn="l" pos="6153120"/>
                <a:tab algn="l" pos="6610320"/>
                <a:tab algn="l" pos="7067520"/>
                <a:tab algn="l" pos="7524720"/>
                <a:tab algn="l" pos="7981920"/>
                <a:tab algn="l" pos="8439120"/>
                <a:tab algn="l" pos="8896320"/>
                <a:tab algn="l" pos="9353520"/>
                <a:tab algn="l" pos="9601200"/>
                <a:tab algn="l" pos="10058400"/>
                <a:tab algn="l" pos="10515600"/>
              </a:tabLst>
            </a:pPr>
            <a:fld id="{D1B4E508-CCB5-4409-9D1C-118FAF0BEE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4A3A33-F119-4B48-95CE-716B4F5FFD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5" name="Text Box 1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9520"/>
                <a:tab algn="l" pos="666720"/>
                <a:tab algn="l" pos="1123920"/>
                <a:tab algn="l" pos="1581120"/>
                <a:tab algn="l" pos="2038320"/>
                <a:tab algn="l" pos="2495520"/>
                <a:tab algn="l" pos="2952720"/>
                <a:tab algn="l" pos="3409920"/>
                <a:tab algn="l" pos="3867120"/>
                <a:tab algn="l" pos="4324320"/>
                <a:tab algn="l" pos="4781520"/>
                <a:tab algn="l" pos="5238720"/>
                <a:tab algn="l" pos="5695920"/>
                <a:tab algn="l" pos="6153120"/>
                <a:tab algn="l" pos="6610320"/>
                <a:tab algn="l" pos="7067520"/>
                <a:tab algn="l" pos="7524720"/>
                <a:tab algn="l" pos="7981920"/>
                <a:tab algn="l" pos="8439120"/>
                <a:tab algn="l" pos="8896320"/>
                <a:tab algn="l" pos="9353520"/>
                <a:tab algn="l" pos="9601200"/>
                <a:tab algn="l" pos="10058400"/>
                <a:tab algn="l" pos="10515600"/>
              </a:tabLst>
            </a:pPr>
            <a:fld id="{42EAAD50-073F-4810-BB0C-50ED3DB09A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20000"/>
              </a:lnSpc>
              <a:spcAft>
                <a:spcPts val="300"/>
              </a:spcAft>
              <a:buClr>
                <a:srgbClr val="4f81bd"/>
              </a:buClr>
              <a:buFont typeface="Wingdings" charset="2"/>
              <a:buChar char="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D1047B-8643-4B9A-9139-D8A5A00CD62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BB8731-A618-4D53-AF79-FEFD5592E8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0" name="Text Box 1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9520"/>
                <a:tab algn="l" pos="666720"/>
                <a:tab algn="l" pos="1123920"/>
                <a:tab algn="l" pos="1581120"/>
                <a:tab algn="l" pos="2038320"/>
                <a:tab algn="l" pos="2495520"/>
                <a:tab algn="l" pos="2952720"/>
                <a:tab algn="l" pos="3409920"/>
                <a:tab algn="l" pos="3867120"/>
                <a:tab algn="l" pos="4324320"/>
                <a:tab algn="l" pos="4781520"/>
                <a:tab algn="l" pos="5238720"/>
                <a:tab algn="l" pos="5695920"/>
                <a:tab algn="l" pos="6153120"/>
                <a:tab algn="l" pos="6610320"/>
                <a:tab algn="l" pos="7067520"/>
                <a:tab algn="l" pos="7524720"/>
                <a:tab algn="l" pos="7981920"/>
                <a:tab algn="l" pos="8439120"/>
                <a:tab algn="l" pos="8896320"/>
                <a:tab algn="l" pos="9353520"/>
                <a:tab algn="l" pos="9601200"/>
                <a:tab algn="l" pos="10058400"/>
                <a:tab algn="l" pos="10515600"/>
              </a:tabLst>
            </a:pPr>
            <a:fld id="{AB5546FD-DD45-41E2-BA50-B25FA15DED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20000"/>
              </a:lnSpc>
              <a:spcAft>
                <a:spcPts val="300"/>
              </a:spcAft>
              <a:buClr>
                <a:srgbClr val="4f81bd"/>
              </a:buClr>
              <a:buFont typeface="Wingdings" charset="2"/>
              <a:buChar char="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A3B1D9-4437-4333-A793-E4FCB5061A0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E2F00C-1A2D-4749-9A28-D76A80A612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5" name="Text Box 1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9520"/>
                <a:tab algn="l" pos="666720"/>
                <a:tab algn="l" pos="1123920"/>
                <a:tab algn="l" pos="1581120"/>
                <a:tab algn="l" pos="2038320"/>
                <a:tab algn="l" pos="2495520"/>
                <a:tab algn="l" pos="2952720"/>
                <a:tab algn="l" pos="3409920"/>
                <a:tab algn="l" pos="3867120"/>
                <a:tab algn="l" pos="4324320"/>
                <a:tab algn="l" pos="4781520"/>
                <a:tab algn="l" pos="5238720"/>
                <a:tab algn="l" pos="5695920"/>
                <a:tab algn="l" pos="6153120"/>
                <a:tab algn="l" pos="6610320"/>
                <a:tab algn="l" pos="7067520"/>
                <a:tab algn="l" pos="7524720"/>
                <a:tab algn="l" pos="7981920"/>
                <a:tab algn="l" pos="8439120"/>
                <a:tab algn="l" pos="8896320"/>
                <a:tab algn="l" pos="9353520"/>
                <a:tab algn="l" pos="9601200"/>
                <a:tab algn="l" pos="10058400"/>
                <a:tab algn="l" pos="10515600"/>
              </a:tabLst>
            </a:pPr>
            <a:fld id="{C713B9BC-0D55-420E-BEC1-BD414E2C4E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1319D9-E11E-49CD-BBAD-855C488984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9" name="Text Box 1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9520"/>
                <a:tab algn="l" pos="666720"/>
                <a:tab algn="l" pos="1123920"/>
                <a:tab algn="l" pos="1581120"/>
                <a:tab algn="l" pos="2038320"/>
                <a:tab algn="l" pos="2495520"/>
                <a:tab algn="l" pos="2952720"/>
                <a:tab algn="l" pos="3409920"/>
                <a:tab algn="l" pos="3867120"/>
                <a:tab algn="l" pos="4324320"/>
                <a:tab algn="l" pos="4781520"/>
                <a:tab algn="l" pos="5238720"/>
                <a:tab algn="l" pos="5695920"/>
                <a:tab algn="l" pos="6153120"/>
                <a:tab algn="l" pos="6610320"/>
                <a:tab algn="l" pos="7067520"/>
                <a:tab algn="l" pos="7524720"/>
                <a:tab algn="l" pos="7981920"/>
                <a:tab algn="l" pos="8439120"/>
                <a:tab algn="l" pos="8896320"/>
                <a:tab algn="l" pos="9353520"/>
                <a:tab algn="l" pos="9601200"/>
                <a:tab algn="l" pos="10058400"/>
                <a:tab algn="l" pos="10515600"/>
              </a:tabLst>
            </a:pPr>
            <a:fld id="{1C7AACD3-0B65-4A2B-9CD5-B712D2CA73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99B120-99F1-4A97-BFF6-1D66D80F8D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3" name="Text Box 1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9520"/>
                <a:tab algn="l" pos="666720"/>
                <a:tab algn="l" pos="1123920"/>
                <a:tab algn="l" pos="1581120"/>
                <a:tab algn="l" pos="2038320"/>
                <a:tab algn="l" pos="2495520"/>
                <a:tab algn="l" pos="2952720"/>
                <a:tab algn="l" pos="3409920"/>
                <a:tab algn="l" pos="3867120"/>
                <a:tab algn="l" pos="4324320"/>
                <a:tab algn="l" pos="4781520"/>
                <a:tab algn="l" pos="5238720"/>
                <a:tab algn="l" pos="5695920"/>
                <a:tab algn="l" pos="6153120"/>
                <a:tab algn="l" pos="6610320"/>
                <a:tab algn="l" pos="7067520"/>
                <a:tab algn="l" pos="7524720"/>
                <a:tab algn="l" pos="7981920"/>
                <a:tab algn="l" pos="8439120"/>
                <a:tab algn="l" pos="8896320"/>
                <a:tab algn="l" pos="9353520"/>
                <a:tab algn="l" pos="9601200"/>
                <a:tab algn="l" pos="10058400"/>
                <a:tab algn="l" pos="10515600"/>
              </a:tabLst>
            </a:pPr>
            <a:fld id="{501F8C03-2B28-49B3-9DDE-644467C4B1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20000"/>
              </a:lnSpc>
              <a:spcAft>
                <a:spcPts val="300"/>
              </a:spcAft>
              <a:buClr>
                <a:srgbClr val="4f81bd"/>
              </a:buClr>
              <a:buFont typeface="Wingdings" charset="2"/>
              <a:buChar char="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8A5701-0C78-4F54-A9E6-F45D7BCEBFE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FC2C6D-61B8-4FB9-A32D-D89C4517A0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8" name="Text Box 1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9520"/>
                <a:tab algn="l" pos="666720"/>
                <a:tab algn="l" pos="1123920"/>
                <a:tab algn="l" pos="1581120"/>
                <a:tab algn="l" pos="2038320"/>
                <a:tab algn="l" pos="2495520"/>
                <a:tab algn="l" pos="2952720"/>
                <a:tab algn="l" pos="3409920"/>
                <a:tab algn="l" pos="3867120"/>
                <a:tab algn="l" pos="4324320"/>
                <a:tab algn="l" pos="4781520"/>
                <a:tab algn="l" pos="5238720"/>
                <a:tab algn="l" pos="5695920"/>
                <a:tab algn="l" pos="6153120"/>
                <a:tab algn="l" pos="6610320"/>
                <a:tab algn="l" pos="7067520"/>
                <a:tab algn="l" pos="7524720"/>
                <a:tab algn="l" pos="7981920"/>
                <a:tab algn="l" pos="8439120"/>
                <a:tab algn="l" pos="8896320"/>
                <a:tab algn="l" pos="9353520"/>
                <a:tab algn="l" pos="9601200"/>
                <a:tab algn="l" pos="10058400"/>
                <a:tab algn="l" pos="10515600"/>
              </a:tabLst>
            </a:pPr>
            <a:fld id="{20115E5D-9EE9-41B6-BA74-415683DF6D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20000"/>
              </a:lnSpc>
              <a:spcAft>
                <a:spcPts val="300"/>
              </a:spcAft>
              <a:buClr>
                <a:srgbClr val="4f81bd"/>
              </a:buClr>
              <a:buFont typeface="Wingdings" charset="2"/>
              <a:buChar char="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4ECC0F-6419-42EB-B9C3-53C0877B77A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D17DE4-D509-4399-980B-4F36EF79F1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3" name="Text Box 1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9520"/>
                <a:tab algn="l" pos="666720"/>
                <a:tab algn="l" pos="1123920"/>
                <a:tab algn="l" pos="1581120"/>
                <a:tab algn="l" pos="2038320"/>
                <a:tab algn="l" pos="2495520"/>
                <a:tab algn="l" pos="2952720"/>
                <a:tab algn="l" pos="3409920"/>
                <a:tab algn="l" pos="3867120"/>
                <a:tab algn="l" pos="4324320"/>
                <a:tab algn="l" pos="4781520"/>
                <a:tab algn="l" pos="5238720"/>
                <a:tab algn="l" pos="5695920"/>
                <a:tab algn="l" pos="6153120"/>
                <a:tab algn="l" pos="6610320"/>
                <a:tab algn="l" pos="7067520"/>
                <a:tab algn="l" pos="7524720"/>
                <a:tab algn="l" pos="7981920"/>
                <a:tab algn="l" pos="8439120"/>
                <a:tab algn="l" pos="8896320"/>
                <a:tab algn="l" pos="9353520"/>
                <a:tab algn="l" pos="9601200"/>
                <a:tab algn="l" pos="10058400"/>
                <a:tab algn="l" pos="10515600"/>
              </a:tabLst>
            </a:pPr>
            <a:fld id="{4A102009-347E-43B5-B7AC-B4129D9713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13AA1C-E601-4F53-8D7C-AA7D5723AA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1" name="Text Box 1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9520"/>
                <a:tab algn="l" pos="666720"/>
                <a:tab algn="l" pos="1123920"/>
                <a:tab algn="l" pos="1581120"/>
                <a:tab algn="l" pos="2038320"/>
                <a:tab algn="l" pos="2495520"/>
                <a:tab algn="l" pos="2952720"/>
                <a:tab algn="l" pos="3409920"/>
                <a:tab algn="l" pos="3867120"/>
                <a:tab algn="l" pos="4324320"/>
                <a:tab algn="l" pos="4781520"/>
                <a:tab algn="l" pos="5238720"/>
                <a:tab algn="l" pos="5695920"/>
                <a:tab algn="l" pos="6153120"/>
                <a:tab algn="l" pos="6610320"/>
                <a:tab algn="l" pos="7067520"/>
                <a:tab algn="l" pos="7524720"/>
                <a:tab algn="l" pos="7981920"/>
                <a:tab algn="l" pos="8439120"/>
                <a:tab algn="l" pos="8896320"/>
                <a:tab algn="l" pos="9353520"/>
                <a:tab algn="l" pos="9601200"/>
                <a:tab algn="l" pos="10058400"/>
                <a:tab algn="l" pos="10515600"/>
              </a:tabLst>
            </a:pPr>
            <a:fld id="{EC2A031C-E3A1-4342-B073-1ACDB40C8A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6E6BD2-3DAE-493B-8E4F-23C4038E45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7" name="Text Box 1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9520"/>
                <a:tab algn="l" pos="666720"/>
                <a:tab algn="l" pos="1123920"/>
                <a:tab algn="l" pos="1581120"/>
                <a:tab algn="l" pos="2038320"/>
                <a:tab algn="l" pos="2495520"/>
                <a:tab algn="l" pos="2952720"/>
                <a:tab algn="l" pos="3409920"/>
                <a:tab algn="l" pos="3867120"/>
                <a:tab algn="l" pos="4324320"/>
                <a:tab algn="l" pos="4781520"/>
                <a:tab algn="l" pos="5238720"/>
                <a:tab algn="l" pos="5695920"/>
                <a:tab algn="l" pos="6153120"/>
                <a:tab algn="l" pos="6610320"/>
                <a:tab algn="l" pos="7067520"/>
                <a:tab algn="l" pos="7524720"/>
                <a:tab algn="l" pos="7981920"/>
                <a:tab algn="l" pos="8439120"/>
                <a:tab algn="l" pos="8896320"/>
                <a:tab algn="l" pos="9353520"/>
                <a:tab algn="l" pos="9601200"/>
                <a:tab algn="l" pos="10058400"/>
                <a:tab algn="l" pos="10515600"/>
              </a:tabLst>
            </a:pPr>
            <a:fld id="{0B12E430-BDBE-4BFF-83A5-5745658ADC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2E006B-F918-4D8B-B759-4E80276328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1" name="Text Box 1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9520"/>
                <a:tab algn="l" pos="666720"/>
                <a:tab algn="l" pos="1123920"/>
                <a:tab algn="l" pos="1581120"/>
                <a:tab algn="l" pos="2038320"/>
                <a:tab algn="l" pos="2495520"/>
                <a:tab algn="l" pos="2952720"/>
                <a:tab algn="l" pos="3409920"/>
                <a:tab algn="l" pos="3867120"/>
                <a:tab algn="l" pos="4324320"/>
                <a:tab algn="l" pos="4781520"/>
                <a:tab algn="l" pos="5238720"/>
                <a:tab algn="l" pos="5695920"/>
                <a:tab algn="l" pos="6153120"/>
                <a:tab algn="l" pos="6610320"/>
                <a:tab algn="l" pos="7067520"/>
                <a:tab algn="l" pos="7524720"/>
                <a:tab algn="l" pos="7981920"/>
                <a:tab algn="l" pos="8439120"/>
                <a:tab algn="l" pos="8896320"/>
                <a:tab algn="l" pos="9353520"/>
                <a:tab algn="l" pos="9601200"/>
                <a:tab algn="l" pos="10058400"/>
                <a:tab algn="l" pos="10515600"/>
              </a:tabLst>
            </a:pPr>
            <a:fld id="{68D888B9-8961-46B2-9060-086332F7B1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20000"/>
              </a:lnSpc>
              <a:spcAft>
                <a:spcPts val="300"/>
              </a:spcAft>
              <a:buClr>
                <a:srgbClr val="4f81bd"/>
              </a:buClr>
              <a:buFont typeface="Wingdings" charset="2"/>
              <a:buChar char="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213577-B6FE-4205-9E90-C3715E32BFE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B7CBA5-3B27-4BD0-91BE-12EB874032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6" name="Text Box 1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9520"/>
                <a:tab algn="l" pos="666720"/>
                <a:tab algn="l" pos="1123920"/>
                <a:tab algn="l" pos="1581120"/>
                <a:tab algn="l" pos="2038320"/>
                <a:tab algn="l" pos="2495520"/>
                <a:tab algn="l" pos="2952720"/>
                <a:tab algn="l" pos="3409920"/>
                <a:tab algn="l" pos="3867120"/>
                <a:tab algn="l" pos="4324320"/>
                <a:tab algn="l" pos="4781520"/>
                <a:tab algn="l" pos="5238720"/>
                <a:tab algn="l" pos="5695920"/>
                <a:tab algn="l" pos="6153120"/>
                <a:tab algn="l" pos="6610320"/>
                <a:tab algn="l" pos="7067520"/>
                <a:tab algn="l" pos="7524720"/>
                <a:tab algn="l" pos="7981920"/>
                <a:tab algn="l" pos="8439120"/>
                <a:tab algn="l" pos="8896320"/>
                <a:tab algn="l" pos="9353520"/>
                <a:tab algn="l" pos="9601200"/>
                <a:tab algn="l" pos="10058400"/>
                <a:tab algn="l" pos="10515600"/>
              </a:tabLst>
            </a:pPr>
            <a:fld id="{980D9439-D076-4D2E-9381-17E3CFDA1C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20000"/>
              </a:lnSpc>
              <a:spcAft>
                <a:spcPts val="300"/>
              </a:spcAft>
              <a:buClr>
                <a:srgbClr val="4f81bd"/>
              </a:buClr>
              <a:buFont typeface="Wingdings" charset="2"/>
              <a:buChar char="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8826A0-804B-474F-97E8-2CDEEE08CC4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190F0A-5110-405F-A811-6FBD297807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1" name="Text Box 1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9520"/>
                <a:tab algn="l" pos="666720"/>
                <a:tab algn="l" pos="1123920"/>
                <a:tab algn="l" pos="1581120"/>
                <a:tab algn="l" pos="2038320"/>
                <a:tab algn="l" pos="2495520"/>
                <a:tab algn="l" pos="2952720"/>
                <a:tab algn="l" pos="3409920"/>
                <a:tab algn="l" pos="3867120"/>
                <a:tab algn="l" pos="4324320"/>
                <a:tab algn="l" pos="4781520"/>
                <a:tab algn="l" pos="5238720"/>
                <a:tab algn="l" pos="5695920"/>
                <a:tab algn="l" pos="6153120"/>
                <a:tab algn="l" pos="6610320"/>
                <a:tab algn="l" pos="7067520"/>
                <a:tab algn="l" pos="7524720"/>
                <a:tab algn="l" pos="7981920"/>
                <a:tab algn="l" pos="8439120"/>
                <a:tab algn="l" pos="8896320"/>
                <a:tab algn="l" pos="9353520"/>
                <a:tab algn="l" pos="9601200"/>
                <a:tab algn="l" pos="10058400"/>
                <a:tab algn="l" pos="10515600"/>
              </a:tabLst>
            </a:pPr>
            <a:fld id="{5C300CFA-3CB3-4ED9-AA22-1B4FF11D12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B88DFC-8BD4-4274-843D-B6802EB044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5" name="Text Box 1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9520"/>
                <a:tab algn="l" pos="666720"/>
                <a:tab algn="l" pos="1123920"/>
                <a:tab algn="l" pos="1581120"/>
                <a:tab algn="l" pos="2038320"/>
                <a:tab algn="l" pos="2495520"/>
                <a:tab algn="l" pos="2952720"/>
                <a:tab algn="l" pos="3409920"/>
                <a:tab algn="l" pos="3867120"/>
                <a:tab algn="l" pos="4324320"/>
                <a:tab algn="l" pos="4781520"/>
                <a:tab algn="l" pos="5238720"/>
                <a:tab algn="l" pos="5695920"/>
                <a:tab algn="l" pos="6153120"/>
                <a:tab algn="l" pos="6610320"/>
                <a:tab algn="l" pos="7067520"/>
                <a:tab algn="l" pos="7524720"/>
                <a:tab algn="l" pos="7981920"/>
                <a:tab algn="l" pos="8439120"/>
                <a:tab algn="l" pos="8896320"/>
                <a:tab algn="l" pos="9353520"/>
                <a:tab algn="l" pos="9601200"/>
                <a:tab algn="l" pos="10058400"/>
                <a:tab algn="l" pos="10515600"/>
              </a:tabLst>
            </a:pPr>
            <a:fld id="{AE52687A-4ACE-4D8F-B331-82DDDAE0D4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6FC594-DECF-4A96-868D-3D2F8CB8D8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9" name="Text Box 1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9520"/>
                <a:tab algn="l" pos="666720"/>
                <a:tab algn="l" pos="1123920"/>
                <a:tab algn="l" pos="1581120"/>
                <a:tab algn="l" pos="2038320"/>
                <a:tab algn="l" pos="2495520"/>
                <a:tab algn="l" pos="2952720"/>
                <a:tab algn="l" pos="3409920"/>
                <a:tab algn="l" pos="3867120"/>
                <a:tab algn="l" pos="4324320"/>
                <a:tab algn="l" pos="4781520"/>
                <a:tab algn="l" pos="5238720"/>
                <a:tab algn="l" pos="5695920"/>
                <a:tab algn="l" pos="6153120"/>
                <a:tab algn="l" pos="6610320"/>
                <a:tab algn="l" pos="7067520"/>
                <a:tab algn="l" pos="7524720"/>
                <a:tab algn="l" pos="7981920"/>
                <a:tab algn="l" pos="8439120"/>
                <a:tab algn="l" pos="8896320"/>
                <a:tab algn="l" pos="9353520"/>
                <a:tab algn="l" pos="9601200"/>
                <a:tab algn="l" pos="10058400"/>
                <a:tab algn="l" pos="10515600"/>
              </a:tabLst>
            </a:pPr>
            <a:fld id="{C85CF3E4-783B-4BA8-8637-72EAA137F2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DD6CE8-C3DF-4992-9A13-064C0F6D9F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3" name="Text Box 1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9520"/>
                <a:tab algn="l" pos="666720"/>
                <a:tab algn="l" pos="1123920"/>
                <a:tab algn="l" pos="1581120"/>
                <a:tab algn="l" pos="2038320"/>
                <a:tab algn="l" pos="2495520"/>
                <a:tab algn="l" pos="2952720"/>
                <a:tab algn="l" pos="3409920"/>
                <a:tab algn="l" pos="3867120"/>
                <a:tab algn="l" pos="4324320"/>
                <a:tab algn="l" pos="4781520"/>
                <a:tab algn="l" pos="5238720"/>
                <a:tab algn="l" pos="5695920"/>
                <a:tab algn="l" pos="6153120"/>
                <a:tab algn="l" pos="6610320"/>
                <a:tab algn="l" pos="7067520"/>
                <a:tab algn="l" pos="7524720"/>
                <a:tab algn="l" pos="7981920"/>
                <a:tab algn="l" pos="8439120"/>
                <a:tab algn="l" pos="8896320"/>
                <a:tab algn="l" pos="9353520"/>
                <a:tab algn="l" pos="9601200"/>
                <a:tab algn="l" pos="10058400"/>
                <a:tab algn="l" pos="10515600"/>
              </a:tabLst>
            </a:pPr>
            <a:fld id="{B213D278-A587-49BD-8738-F7C3A273B3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B95A64-D54D-4865-BEF5-66FDDB3AD0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7" name="Text Box 1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9520"/>
                <a:tab algn="l" pos="666720"/>
                <a:tab algn="l" pos="1123920"/>
                <a:tab algn="l" pos="1581120"/>
                <a:tab algn="l" pos="2038320"/>
                <a:tab algn="l" pos="2495520"/>
                <a:tab algn="l" pos="2952720"/>
                <a:tab algn="l" pos="3409920"/>
                <a:tab algn="l" pos="3867120"/>
                <a:tab algn="l" pos="4324320"/>
                <a:tab algn="l" pos="4781520"/>
                <a:tab algn="l" pos="5238720"/>
                <a:tab algn="l" pos="5695920"/>
                <a:tab algn="l" pos="6153120"/>
                <a:tab algn="l" pos="6610320"/>
                <a:tab algn="l" pos="7067520"/>
                <a:tab algn="l" pos="7524720"/>
                <a:tab algn="l" pos="7981920"/>
                <a:tab algn="l" pos="8439120"/>
                <a:tab algn="l" pos="8896320"/>
                <a:tab algn="l" pos="9353520"/>
                <a:tab algn="l" pos="9601200"/>
                <a:tab algn="l" pos="10058400"/>
                <a:tab algn="l" pos="10515600"/>
              </a:tabLst>
            </a:pPr>
            <a:fld id="{D1830857-7630-43D2-972A-2D68B1A1AC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A8018F-F1D7-4FEE-A45C-215A52B9EA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1" name="Text Box 1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9520"/>
                <a:tab algn="l" pos="666720"/>
                <a:tab algn="l" pos="1123920"/>
                <a:tab algn="l" pos="1581120"/>
                <a:tab algn="l" pos="2038320"/>
                <a:tab algn="l" pos="2495520"/>
                <a:tab algn="l" pos="2952720"/>
                <a:tab algn="l" pos="3409920"/>
                <a:tab algn="l" pos="3867120"/>
                <a:tab algn="l" pos="4324320"/>
                <a:tab algn="l" pos="4781520"/>
                <a:tab algn="l" pos="5238720"/>
                <a:tab algn="l" pos="5695920"/>
                <a:tab algn="l" pos="6153120"/>
                <a:tab algn="l" pos="6610320"/>
                <a:tab algn="l" pos="7067520"/>
                <a:tab algn="l" pos="7524720"/>
                <a:tab algn="l" pos="7981920"/>
                <a:tab algn="l" pos="8439120"/>
                <a:tab algn="l" pos="8896320"/>
                <a:tab algn="l" pos="9353520"/>
                <a:tab algn="l" pos="9601200"/>
                <a:tab algn="l" pos="10058400"/>
                <a:tab algn="l" pos="10515600"/>
              </a:tabLst>
            </a:pPr>
            <a:fld id="{DBAD82FD-C854-4953-9184-CEC73E9E13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62A484-7F97-4B7E-824E-0B3F3C0D3A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5" name="Text Box 1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9520"/>
                <a:tab algn="l" pos="666720"/>
                <a:tab algn="l" pos="1123920"/>
                <a:tab algn="l" pos="1581120"/>
                <a:tab algn="l" pos="2038320"/>
                <a:tab algn="l" pos="2495520"/>
                <a:tab algn="l" pos="2952720"/>
                <a:tab algn="l" pos="3409920"/>
                <a:tab algn="l" pos="3867120"/>
                <a:tab algn="l" pos="4324320"/>
                <a:tab algn="l" pos="4781520"/>
                <a:tab algn="l" pos="5238720"/>
                <a:tab algn="l" pos="5695920"/>
                <a:tab algn="l" pos="6153120"/>
                <a:tab algn="l" pos="6610320"/>
                <a:tab algn="l" pos="7067520"/>
                <a:tab algn="l" pos="7524720"/>
                <a:tab algn="l" pos="7981920"/>
                <a:tab algn="l" pos="8439120"/>
                <a:tab algn="l" pos="8896320"/>
                <a:tab algn="l" pos="9353520"/>
                <a:tab algn="l" pos="9601200"/>
                <a:tab algn="l" pos="10058400"/>
                <a:tab algn="l" pos="10515600"/>
              </a:tabLst>
            </a:pPr>
            <a:fld id="{31892C97-B684-4D77-A4B6-A6606886A0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B61B99-1FB1-4388-84BF-E7A211298F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5" name="Text Box 1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9520"/>
                <a:tab algn="l" pos="666720"/>
                <a:tab algn="l" pos="1123920"/>
                <a:tab algn="l" pos="1581120"/>
                <a:tab algn="l" pos="2038320"/>
                <a:tab algn="l" pos="2495520"/>
                <a:tab algn="l" pos="2952720"/>
                <a:tab algn="l" pos="3409920"/>
                <a:tab algn="l" pos="3867120"/>
                <a:tab algn="l" pos="4324320"/>
                <a:tab algn="l" pos="4781520"/>
                <a:tab algn="l" pos="5238720"/>
                <a:tab algn="l" pos="5695920"/>
                <a:tab algn="l" pos="6153120"/>
                <a:tab algn="l" pos="6610320"/>
                <a:tab algn="l" pos="7067520"/>
                <a:tab algn="l" pos="7524720"/>
                <a:tab algn="l" pos="7981920"/>
                <a:tab algn="l" pos="8439120"/>
                <a:tab algn="l" pos="8896320"/>
                <a:tab algn="l" pos="9353520"/>
                <a:tab algn="l" pos="9601200"/>
                <a:tab algn="l" pos="10058400"/>
                <a:tab algn="l" pos="10515600"/>
              </a:tabLst>
            </a:pPr>
            <a:fld id="{93795C71-4B60-4334-83D4-7422369026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9963E1-C8D0-4BD5-8E3D-5B25CDB4AD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9" name="Text Box 1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9520"/>
                <a:tab algn="l" pos="666720"/>
                <a:tab algn="l" pos="1123920"/>
                <a:tab algn="l" pos="1581120"/>
                <a:tab algn="l" pos="2038320"/>
                <a:tab algn="l" pos="2495520"/>
                <a:tab algn="l" pos="2952720"/>
                <a:tab algn="l" pos="3409920"/>
                <a:tab algn="l" pos="3867120"/>
                <a:tab algn="l" pos="4324320"/>
                <a:tab algn="l" pos="4781520"/>
                <a:tab algn="l" pos="5238720"/>
                <a:tab algn="l" pos="5695920"/>
                <a:tab algn="l" pos="6153120"/>
                <a:tab algn="l" pos="6610320"/>
                <a:tab algn="l" pos="7067520"/>
                <a:tab algn="l" pos="7524720"/>
                <a:tab algn="l" pos="7981920"/>
                <a:tab algn="l" pos="8439120"/>
                <a:tab algn="l" pos="8896320"/>
                <a:tab algn="l" pos="9353520"/>
                <a:tab algn="l" pos="9601200"/>
                <a:tab algn="l" pos="10058400"/>
                <a:tab algn="l" pos="10515600"/>
              </a:tabLst>
            </a:pPr>
            <a:fld id="{4EA02CEE-2458-4EBB-AB44-EDFF4A226C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93ACDA-2B1F-4151-9221-D397C68AFC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3" name="Text Box 1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9520"/>
                <a:tab algn="l" pos="666720"/>
                <a:tab algn="l" pos="1123920"/>
                <a:tab algn="l" pos="1581120"/>
                <a:tab algn="l" pos="2038320"/>
                <a:tab algn="l" pos="2495520"/>
                <a:tab algn="l" pos="2952720"/>
                <a:tab algn="l" pos="3409920"/>
                <a:tab algn="l" pos="3867120"/>
                <a:tab algn="l" pos="4324320"/>
                <a:tab algn="l" pos="4781520"/>
                <a:tab algn="l" pos="5238720"/>
                <a:tab algn="l" pos="5695920"/>
                <a:tab algn="l" pos="6153120"/>
                <a:tab algn="l" pos="6610320"/>
                <a:tab algn="l" pos="7067520"/>
                <a:tab algn="l" pos="7524720"/>
                <a:tab algn="l" pos="7981920"/>
                <a:tab algn="l" pos="8439120"/>
                <a:tab algn="l" pos="8896320"/>
                <a:tab algn="l" pos="9353520"/>
                <a:tab algn="l" pos="9601200"/>
                <a:tab algn="l" pos="10058400"/>
                <a:tab algn="l" pos="10515600"/>
              </a:tabLst>
            </a:pPr>
            <a:fld id="{E7E506C9-608F-4AF0-B062-F6D6DF8430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90A13F-6849-4148-90A7-9DD4821DBB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7" name="Text Box 1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9520"/>
                <a:tab algn="l" pos="666720"/>
                <a:tab algn="l" pos="1123920"/>
                <a:tab algn="l" pos="1581120"/>
                <a:tab algn="l" pos="2038320"/>
                <a:tab algn="l" pos="2495520"/>
                <a:tab algn="l" pos="2952720"/>
                <a:tab algn="l" pos="3409920"/>
                <a:tab algn="l" pos="3867120"/>
                <a:tab algn="l" pos="4324320"/>
                <a:tab algn="l" pos="4781520"/>
                <a:tab algn="l" pos="5238720"/>
                <a:tab algn="l" pos="5695920"/>
                <a:tab algn="l" pos="6153120"/>
                <a:tab algn="l" pos="6610320"/>
                <a:tab algn="l" pos="7067520"/>
                <a:tab algn="l" pos="7524720"/>
                <a:tab algn="l" pos="7981920"/>
                <a:tab algn="l" pos="8439120"/>
                <a:tab algn="l" pos="8896320"/>
                <a:tab algn="l" pos="9353520"/>
                <a:tab algn="l" pos="9601200"/>
                <a:tab algn="l" pos="10058400"/>
                <a:tab algn="l" pos="10515600"/>
              </a:tabLst>
            </a:pPr>
            <a:fld id="{11F81537-EEB6-4DAE-A299-9811BAD764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09DB9F-1756-444E-BF5C-082492AD43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1" name="Text Box 1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9520"/>
                <a:tab algn="l" pos="666720"/>
                <a:tab algn="l" pos="1123920"/>
                <a:tab algn="l" pos="1581120"/>
                <a:tab algn="l" pos="2038320"/>
                <a:tab algn="l" pos="2495520"/>
                <a:tab algn="l" pos="2952720"/>
                <a:tab algn="l" pos="3409920"/>
                <a:tab algn="l" pos="3867120"/>
                <a:tab algn="l" pos="4324320"/>
                <a:tab algn="l" pos="4781520"/>
                <a:tab algn="l" pos="5238720"/>
                <a:tab algn="l" pos="5695920"/>
                <a:tab algn="l" pos="6153120"/>
                <a:tab algn="l" pos="6610320"/>
                <a:tab algn="l" pos="7067520"/>
                <a:tab algn="l" pos="7524720"/>
                <a:tab algn="l" pos="7981920"/>
                <a:tab algn="l" pos="8439120"/>
                <a:tab algn="l" pos="8896320"/>
                <a:tab algn="l" pos="9353520"/>
                <a:tab algn="l" pos="9601200"/>
                <a:tab algn="l" pos="10058400"/>
                <a:tab algn="l" pos="10515600"/>
              </a:tabLst>
            </a:pPr>
            <a:fld id="{840132D3-9E7B-4102-9907-FE4F351061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FAE730-A7FA-4210-B841-11ED43A12F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5" name="Text Box 1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9520"/>
                <a:tab algn="l" pos="666720"/>
                <a:tab algn="l" pos="1123920"/>
                <a:tab algn="l" pos="1581120"/>
                <a:tab algn="l" pos="2038320"/>
                <a:tab algn="l" pos="2495520"/>
                <a:tab algn="l" pos="2952720"/>
                <a:tab algn="l" pos="3409920"/>
                <a:tab algn="l" pos="3867120"/>
                <a:tab algn="l" pos="4324320"/>
                <a:tab algn="l" pos="4781520"/>
                <a:tab algn="l" pos="5238720"/>
                <a:tab algn="l" pos="5695920"/>
                <a:tab algn="l" pos="6153120"/>
                <a:tab algn="l" pos="6610320"/>
                <a:tab algn="l" pos="7067520"/>
                <a:tab algn="l" pos="7524720"/>
                <a:tab algn="l" pos="7981920"/>
                <a:tab algn="l" pos="8439120"/>
                <a:tab algn="l" pos="8896320"/>
                <a:tab algn="l" pos="9353520"/>
                <a:tab algn="l" pos="9601200"/>
                <a:tab algn="l" pos="10058400"/>
                <a:tab algn="l" pos="10515600"/>
              </a:tabLst>
            </a:pPr>
            <a:fld id="{AD6497D8-1653-45FB-B54C-D1D67F72D1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2C223E-CDD9-4055-9D2A-CC62EA8B73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9" name="Text Box 1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9520"/>
                <a:tab algn="l" pos="666720"/>
                <a:tab algn="l" pos="1123920"/>
                <a:tab algn="l" pos="1581120"/>
                <a:tab algn="l" pos="2038320"/>
                <a:tab algn="l" pos="2495520"/>
                <a:tab algn="l" pos="2952720"/>
                <a:tab algn="l" pos="3409920"/>
                <a:tab algn="l" pos="3867120"/>
                <a:tab algn="l" pos="4324320"/>
                <a:tab algn="l" pos="4781520"/>
                <a:tab algn="l" pos="5238720"/>
                <a:tab algn="l" pos="5695920"/>
                <a:tab algn="l" pos="6153120"/>
                <a:tab algn="l" pos="6610320"/>
                <a:tab algn="l" pos="7067520"/>
                <a:tab algn="l" pos="7524720"/>
                <a:tab algn="l" pos="7981920"/>
                <a:tab algn="l" pos="8439120"/>
                <a:tab algn="l" pos="8896320"/>
                <a:tab algn="l" pos="9353520"/>
                <a:tab algn="l" pos="9601200"/>
                <a:tab algn="l" pos="10058400"/>
                <a:tab algn="l" pos="10515600"/>
              </a:tabLst>
            </a:pPr>
            <a:fld id="{E3DD6FD8-4154-463C-9948-DED7300A4F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6192CF-13F5-4312-B4C7-979D611C0D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3" name="Text Box 1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9520"/>
                <a:tab algn="l" pos="666720"/>
                <a:tab algn="l" pos="1123920"/>
                <a:tab algn="l" pos="1581120"/>
                <a:tab algn="l" pos="2038320"/>
                <a:tab algn="l" pos="2495520"/>
                <a:tab algn="l" pos="2952720"/>
                <a:tab algn="l" pos="3409920"/>
                <a:tab algn="l" pos="3867120"/>
                <a:tab algn="l" pos="4324320"/>
                <a:tab algn="l" pos="4781520"/>
                <a:tab algn="l" pos="5238720"/>
                <a:tab algn="l" pos="5695920"/>
                <a:tab algn="l" pos="6153120"/>
                <a:tab algn="l" pos="6610320"/>
                <a:tab algn="l" pos="7067520"/>
                <a:tab algn="l" pos="7524720"/>
                <a:tab algn="l" pos="7981920"/>
                <a:tab algn="l" pos="8439120"/>
                <a:tab algn="l" pos="8896320"/>
                <a:tab algn="l" pos="9353520"/>
                <a:tab algn="l" pos="9601200"/>
                <a:tab algn="l" pos="10058400"/>
                <a:tab algn="l" pos="10515600"/>
              </a:tabLst>
            </a:pPr>
            <a:fld id="{6A478745-35CD-45A0-B3FB-2F586EAF44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AD92E3-3722-41C3-A418-5C84143123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7" name="Text Box 1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9520"/>
                <a:tab algn="l" pos="666720"/>
                <a:tab algn="l" pos="1123920"/>
                <a:tab algn="l" pos="1581120"/>
                <a:tab algn="l" pos="2038320"/>
                <a:tab algn="l" pos="2495520"/>
                <a:tab algn="l" pos="2952720"/>
                <a:tab algn="l" pos="3409920"/>
                <a:tab algn="l" pos="3867120"/>
                <a:tab algn="l" pos="4324320"/>
                <a:tab algn="l" pos="4781520"/>
                <a:tab algn="l" pos="5238720"/>
                <a:tab algn="l" pos="5695920"/>
                <a:tab algn="l" pos="6153120"/>
                <a:tab algn="l" pos="6610320"/>
                <a:tab algn="l" pos="7067520"/>
                <a:tab algn="l" pos="7524720"/>
                <a:tab algn="l" pos="7981920"/>
                <a:tab algn="l" pos="8439120"/>
                <a:tab algn="l" pos="8896320"/>
                <a:tab algn="l" pos="9353520"/>
                <a:tab algn="l" pos="9601200"/>
                <a:tab algn="l" pos="10058400"/>
                <a:tab algn="l" pos="10515600"/>
              </a:tabLst>
            </a:pPr>
            <a:fld id="{4457F226-F259-44B0-828A-3C009987FE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2E194C-4FCB-4519-825B-C8E8594F0B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1" name="Text Box 1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9520"/>
                <a:tab algn="l" pos="666720"/>
                <a:tab algn="l" pos="1123920"/>
                <a:tab algn="l" pos="1581120"/>
                <a:tab algn="l" pos="2038320"/>
                <a:tab algn="l" pos="2495520"/>
                <a:tab algn="l" pos="2952720"/>
                <a:tab algn="l" pos="3409920"/>
                <a:tab algn="l" pos="3867120"/>
                <a:tab algn="l" pos="4324320"/>
                <a:tab algn="l" pos="4781520"/>
                <a:tab algn="l" pos="5238720"/>
                <a:tab algn="l" pos="5695920"/>
                <a:tab algn="l" pos="6153120"/>
                <a:tab algn="l" pos="6610320"/>
                <a:tab algn="l" pos="7067520"/>
                <a:tab algn="l" pos="7524720"/>
                <a:tab algn="l" pos="7981920"/>
                <a:tab algn="l" pos="8439120"/>
                <a:tab algn="l" pos="8896320"/>
                <a:tab algn="l" pos="9353520"/>
                <a:tab algn="l" pos="9601200"/>
                <a:tab algn="l" pos="10058400"/>
                <a:tab algn="l" pos="10515600"/>
              </a:tabLst>
            </a:pPr>
            <a:fld id="{B2F910FE-FF85-4ADF-A12D-0486364F75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B24ABF-2D22-44E7-930D-03B44EDE73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5" name="Text Box 1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9520"/>
                <a:tab algn="l" pos="666720"/>
                <a:tab algn="l" pos="1123920"/>
                <a:tab algn="l" pos="1581120"/>
                <a:tab algn="l" pos="2038320"/>
                <a:tab algn="l" pos="2495520"/>
                <a:tab algn="l" pos="2952720"/>
                <a:tab algn="l" pos="3409920"/>
                <a:tab algn="l" pos="3867120"/>
                <a:tab algn="l" pos="4324320"/>
                <a:tab algn="l" pos="4781520"/>
                <a:tab algn="l" pos="5238720"/>
                <a:tab algn="l" pos="5695920"/>
                <a:tab algn="l" pos="6153120"/>
                <a:tab algn="l" pos="6610320"/>
                <a:tab algn="l" pos="7067520"/>
                <a:tab algn="l" pos="7524720"/>
                <a:tab algn="l" pos="7981920"/>
                <a:tab algn="l" pos="8439120"/>
                <a:tab algn="l" pos="8896320"/>
                <a:tab algn="l" pos="9353520"/>
                <a:tab algn="l" pos="9601200"/>
                <a:tab algn="l" pos="10058400"/>
                <a:tab algn="l" pos="10515600"/>
              </a:tabLst>
            </a:pPr>
            <a:fld id="{33C15444-EFDD-49E4-884B-45069A4E98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370CCB-494D-4361-AB57-4D56288106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9" name="Text Box 1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9520"/>
                <a:tab algn="l" pos="666720"/>
                <a:tab algn="l" pos="1123920"/>
                <a:tab algn="l" pos="1581120"/>
                <a:tab algn="l" pos="2038320"/>
                <a:tab algn="l" pos="2495520"/>
                <a:tab algn="l" pos="2952720"/>
                <a:tab algn="l" pos="3409920"/>
                <a:tab algn="l" pos="3867120"/>
                <a:tab algn="l" pos="4324320"/>
                <a:tab algn="l" pos="4781520"/>
                <a:tab algn="l" pos="5238720"/>
                <a:tab algn="l" pos="5695920"/>
                <a:tab algn="l" pos="6153120"/>
                <a:tab algn="l" pos="6610320"/>
                <a:tab algn="l" pos="7067520"/>
                <a:tab algn="l" pos="7524720"/>
                <a:tab algn="l" pos="7981920"/>
                <a:tab algn="l" pos="8439120"/>
                <a:tab algn="l" pos="8896320"/>
                <a:tab algn="l" pos="9353520"/>
                <a:tab algn="l" pos="9601200"/>
                <a:tab algn="l" pos="10058400"/>
                <a:tab algn="l" pos="10515600"/>
              </a:tabLst>
            </a:pPr>
            <a:fld id="{09A444A3-283F-48A5-9A48-9004C52810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0C7981-2A6D-4E88-8D67-3D1954D909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9" name="Text Box 1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9520"/>
                <a:tab algn="l" pos="666720"/>
                <a:tab algn="l" pos="1123920"/>
                <a:tab algn="l" pos="1581120"/>
                <a:tab algn="l" pos="2038320"/>
                <a:tab algn="l" pos="2495520"/>
                <a:tab algn="l" pos="2952720"/>
                <a:tab algn="l" pos="3409920"/>
                <a:tab algn="l" pos="3867120"/>
                <a:tab algn="l" pos="4324320"/>
                <a:tab algn="l" pos="4781520"/>
                <a:tab algn="l" pos="5238720"/>
                <a:tab algn="l" pos="5695920"/>
                <a:tab algn="l" pos="6153120"/>
                <a:tab algn="l" pos="6610320"/>
                <a:tab algn="l" pos="7067520"/>
                <a:tab algn="l" pos="7524720"/>
                <a:tab algn="l" pos="7981920"/>
                <a:tab algn="l" pos="8439120"/>
                <a:tab algn="l" pos="8896320"/>
                <a:tab algn="l" pos="9353520"/>
                <a:tab algn="l" pos="9601200"/>
                <a:tab algn="l" pos="10058400"/>
                <a:tab algn="l" pos="10515600"/>
              </a:tabLst>
            </a:pPr>
            <a:fld id="{8BD94993-1148-4410-B4D4-8D09114945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934C3D-8DB4-4BE7-9979-914CDFB904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3" name="Text Box 1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9520"/>
                <a:tab algn="l" pos="666720"/>
                <a:tab algn="l" pos="1123920"/>
                <a:tab algn="l" pos="1581120"/>
                <a:tab algn="l" pos="2038320"/>
                <a:tab algn="l" pos="2495520"/>
                <a:tab algn="l" pos="2952720"/>
                <a:tab algn="l" pos="3409920"/>
                <a:tab algn="l" pos="3867120"/>
                <a:tab algn="l" pos="4324320"/>
                <a:tab algn="l" pos="4781520"/>
                <a:tab algn="l" pos="5238720"/>
                <a:tab algn="l" pos="5695920"/>
                <a:tab algn="l" pos="6153120"/>
                <a:tab algn="l" pos="6610320"/>
                <a:tab algn="l" pos="7067520"/>
                <a:tab algn="l" pos="7524720"/>
                <a:tab algn="l" pos="7981920"/>
                <a:tab algn="l" pos="8439120"/>
                <a:tab algn="l" pos="8896320"/>
                <a:tab algn="l" pos="9353520"/>
                <a:tab algn="l" pos="9601200"/>
                <a:tab algn="l" pos="10058400"/>
                <a:tab algn="l" pos="10515600"/>
              </a:tabLst>
            </a:pPr>
            <a:fld id="{93FEC0BB-651F-4C1C-861C-03C3E54C05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5C4E00-D64E-4E0E-8241-8F376F7840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7" name="Text Box 1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9520"/>
                <a:tab algn="l" pos="666720"/>
                <a:tab algn="l" pos="1123920"/>
                <a:tab algn="l" pos="1581120"/>
                <a:tab algn="l" pos="2038320"/>
                <a:tab algn="l" pos="2495520"/>
                <a:tab algn="l" pos="2952720"/>
                <a:tab algn="l" pos="3409920"/>
                <a:tab algn="l" pos="3867120"/>
                <a:tab algn="l" pos="4324320"/>
                <a:tab algn="l" pos="4781520"/>
                <a:tab algn="l" pos="5238720"/>
                <a:tab algn="l" pos="5695920"/>
                <a:tab algn="l" pos="6153120"/>
                <a:tab algn="l" pos="6610320"/>
                <a:tab algn="l" pos="7067520"/>
                <a:tab algn="l" pos="7524720"/>
                <a:tab algn="l" pos="7981920"/>
                <a:tab algn="l" pos="8439120"/>
                <a:tab algn="l" pos="8896320"/>
                <a:tab algn="l" pos="9353520"/>
                <a:tab algn="l" pos="9601200"/>
                <a:tab algn="l" pos="10058400"/>
                <a:tab algn="l" pos="10515600"/>
              </a:tabLst>
            </a:pPr>
            <a:fld id="{11C3FC80-CAA0-40F3-BEFF-B97B6F0779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D7B72E-795E-4AF4-8AAF-88384BBB8E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1" name="Text Box 1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9520"/>
                <a:tab algn="l" pos="666720"/>
                <a:tab algn="l" pos="1123920"/>
                <a:tab algn="l" pos="1581120"/>
                <a:tab algn="l" pos="2038320"/>
                <a:tab algn="l" pos="2495520"/>
                <a:tab algn="l" pos="2952720"/>
                <a:tab algn="l" pos="3409920"/>
                <a:tab algn="l" pos="3867120"/>
                <a:tab algn="l" pos="4324320"/>
                <a:tab algn="l" pos="4781520"/>
                <a:tab algn="l" pos="5238720"/>
                <a:tab algn="l" pos="5695920"/>
                <a:tab algn="l" pos="6153120"/>
                <a:tab algn="l" pos="6610320"/>
                <a:tab algn="l" pos="7067520"/>
                <a:tab algn="l" pos="7524720"/>
                <a:tab algn="l" pos="7981920"/>
                <a:tab algn="l" pos="8439120"/>
                <a:tab algn="l" pos="8896320"/>
                <a:tab algn="l" pos="9353520"/>
                <a:tab algn="l" pos="9601200"/>
                <a:tab algn="l" pos="10058400"/>
                <a:tab algn="l" pos="10515600"/>
              </a:tabLst>
            </a:pPr>
            <a:fld id="{F7F02457-5B7F-4CE2-90CB-C434C32A29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550B61-2880-4065-ABF1-DB21EC4183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5" name="Text Box 1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9520"/>
                <a:tab algn="l" pos="666720"/>
                <a:tab algn="l" pos="1123920"/>
                <a:tab algn="l" pos="1581120"/>
                <a:tab algn="l" pos="2038320"/>
                <a:tab algn="l" pos="2495520"/>
                <a:tab algn="l" pos="2952720"/>
                <a:tab algn="l" pos="3409920"/>
                <a:tab algn="l" pos="3867120"/>
                <a:tab algn="l" pos="4324320"/>
                <a:tab algn="l" pos="4781520"/>
                <a:tab algn="l" pos="5238720"/>
                <a:tab algn="l" pos="5695920"/>
                <a:tab algn="l" pos="6153120"/>
                <a:tab algn="l" pos="6610320"/>
                <a:tab algn="l" pos="7067520"/>
                <a:tab algn="l" pos="7524720"/>
                <a:tab algn="l" pos="7981920"/>
                <a:tab algn="l" pos="8439120"/>
                <a:tab algn="l" pos="8896320"/>
                <a:tab algn="l" pos="9353520"/>
                <a:tab algn="l" pos="9601200"/>
                <a:tab algn="l" pos="10058400"/>
                <a:tab algn="l" pos="10515600"/>
              </a:tabLst>
            </a:pPr>
            <a:fld id="{00AAA738-CE64-4575-B388-BCC452DDA3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A5AA13-B420-4A61-A1D3-DFECEDDD37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9" name="Text Box 1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9520"/>
                <a:tab algn="l" pos="666720"/>
                <a:tab algn="l" pos="1123920"/>
                <a:tab algn="l" pos="1581120"/>
                <a:tab algn="l" pos="2038320"/>
                <a:tab algn="l" pos="2495520"/>
                <a:tab algn="l" pos="2952720"/>
                <a:tab algn="l" pos="3409920"/>
                <a:tab algn="l" pos="3867120"/>
                <a:tab algn="l" pos="4324320"/>
                <a:tab algn="l" pos="4781520"/>
                <a:tab algn="l" pos="5238720"/>
                <a:tab algn="l" pos="5695920"/>
                <a:tab algn="l" pos="6153120"/>
                <a:tab algn="l" pos="6610320"/>
                <a:tab algn="l" pos="7067520"/>
                <a:tab algn="l" pos="7524720"/>
                <a:tab algn="l" pos="7981920"/>
                <a:tab algn="l" pos="8439120"/>
                <a:tab algn="l" pos="8896320"/>
                <a:tab algn="l" pos="9353520"/>
                <a:tab algn="l" pos="9601200"/>
                <a:tab algn="l" pos="10058400"/>
                <a:tab algn="l" pos="10515600"/>
              </a:tabLst>
            </a:pPr>
            <a:fld id="{BB12490D-5420-4F11-98F1-A2315EDAEC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68760" cy="3425760"/>
          </a:xfrm>
          <a:prstGeom prst="rect">
            <a:avLst/>
          </a:prstGeom>
          <a:ln w="0">
            <a:noFill/>
          </a:ln>
        </p:spPr>
      </p:sp>
      <p:sp>
        <p:nvSpPr>
          <p:cNvPr id="641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1C081B-71E1-4E6F-96FC-55CFA425D4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3" name="Text Box 1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9520"/>
                <a:tab algn="l" pos="666720"/>
                <a:tab algn="l" pos="1123920"/>
                <a:tab algn="l" pos="1581120"/>
                <a:tab algn="l" pos="2038320"/>
                <a:tab algn="l" pos="2495520"/>
                <a:tab algn="l" pos="2952720"/>
                <a:tab algn="l" pos="3409920"/>
                <a:tab algn="l" pos="3867120"/>
                <a:tab algn="l" pos="4324320"/>
                <a:tab algn="l" pos="4781520"/>
                <a:tab algn="l" pos="5238720"/>
                <a:tab algn="l" pos="5695920"/>
                <a:tab algn="l" pos="6153120"/>
                <a:tab algn="l" pos="6610320"/>
                <a:tab algn="l" pos="7067520"/>
                <a:tab algn="l" pos="7524720"/>
                <a:tab algn="l" pos="7981920"/>
                <a:tab algn="l" pos="8439120"/>
                <a:tab algn="l" pos="8896320"/>
                <a:tab algn="l" pos="9353520"/>
                <a:tab algn="l" pos="9601200"/>
                <a:tab algn="l" pos="10058400"/>
                <a:tab algn="l" pos="10515600"/>
              </a:tabLst>
            </a:pPr>
            <a:fld id="{6EEAF1D4-09E7-40D3-B3E7-20349413D0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ACD8B4-4CA5-4C87-816A-7E5CEF9C98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7" name="Text Box 1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9520"/>
                <a:tab algn="l" pos="666720"/>
                <a:tab algn="l" pos="1123920"/>
                <a:tab algn="l" pos="1581120"/>
                <a:tab algn="l" pos="2038320"/>
                <a:tab algn="l" pos="2495520"/>
                <a:tab algn="l" pos="2952720"/>
                <a:tab algn="l" pos="3409920"/>
                <a:tab algn="l" pos="3867120"/>
                <a:tab algn="l" pos="4324320"/>
                <a:tab algn="l" pos="4781520"/>
                <a:tab algn="l" pos="5238720"/>
                <a:tab algn="l" pos="5695920"/>
                <a:tab algn="l" pos="6153120"/>
                <a:tab algn="l" pos="6610320"/>
                <a:tab algn="l" pos="7067520"/>
                <a:tab algn="l" pos="7524720"/>
                <a:tab algn="l" pos="7981920"/>
                <a:tab algn="l" pos="8439120"/>
                <a:tab algn="l" pos="8896320"/>
                <a:tab algn="l" pos="9353520"/>
                <a:tab algn="l" pos="9601200"/>
                <a:tab algn="l" pos="10058400"/>
                <a:tab algn="l" pos="10515600"/>
              </a:tabLst>
            </a:pPr>
            <a:fld id="{EB321304-F932-48D2-B575-CFEDF5525A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28EBA9-D8F1-4966-A298-1704FCAB6A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1" name="Text Box 1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9520"/>
                <a:tab algn="l" pos="666720"/>
                <a:tab algn="l" pos="1123920"/>
                <a:tab algn="l" pos="1581120"/>
                <a:tab algn="l" pos="2038320"/>
                <a:tab algn="l" pos="2495520"/>
                <a:tab algn="l" pos="2952720"/>
                <a:tab algn="l" pos="3409920"/>
                <a:tab algn="l" pos="3867120"/>
                <a:tab algn="l" pos="4324320"/>
                <a:tab algn="l" pos="4781520"/>
                <a:tab algn="l" pos="5238720"/>
                <a:tab algn="l" pos="5695920"/>
                <a:tab algn="l" pos="6153120"/>
                <a:tab algn="l" pos="6610320"/>
                <a:tab algn="l" pos="7067520"/>
                <a:tab algn="l" pos="7524720"/>
                <a:tab algn="l" pos="7981920"/>
                <a:tab algn="l" pos="8439120"/>
                <a:tab algn="l" pos="8896320"/>
                <a:tab algn="l" pos="9353520"/>
                <a:tab algn="l" pos="9601200"/>
                <a:tab algn="l" pos="10058400"/>
                <a:tab algn="l" pos="10515600"/>
              </a:tabLst>
            </a:pPr>
            <a:fld id="{35EBC54B-BBF1-40F7-A364-C55FDC4838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0FB7FF-23F6-4798-AA53-6657A512C8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5" name="Text Box 1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9520"/>
                <a:tab algn="l" pos="666720"/>
                <a:tab algn="l" pos="1123920"/>
                <a:tab algn="l" pos="1581120"/>
                <a:tab algn="l" pos="2038320"/>
                <a:tab algn="l" pos="2495520"/>
                <a:tab algn="l" pos="2952720"/>
                <a:tab algn="l" pos="3409920"/>
                <a:tab algn="l" pos="3867120"/>
                <a:tab algn="l" pos="4324320"/>
                <a:tab algn="l" pos="4781520"/>
                <a:tab algn="l" pos="5238720"/>
                <a:tab algn="l" pos="5695920"/>
                <a:tab algn="l" pos="6153120"/>
                <a:tab algn="l" pos="6610320"/>
                <a:tab algn="l" pos="7067520"/>
                <a:tab algn="l" pos="7524720"/>
                <a:tab algn="l" pos="7981920"/>
                <a:tab algn="l" pos="8439120"/>
                <a:tab algn="l" pos="8896320"/>
                <a:tab algn="l" pos="9353520"/>
                <a:tab algn="l" pos="9601200"/>
                <a:tab algn="l" pos="10058400"/>
                <a:tab algn="l" pos="10515600"/>
              </a:tabLst>
            </a:pPr>
            <a:fld id="{E54F4A74-5599-4066-B4A1-A920354DF0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B374D7-B432-4BC8-9548-5824A399A2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3" name="Text Box 1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9520"/>
                <a:tab algn="l" pos="666720"/>
                <a:tab algn="l" pos="1123920"/>
                <a:tab algn="l" pos="1581120"/>
                <a:tab algn="l" pos="2038320"/>
                <a:tab algn="l" pos="2495520"/>
                <a:tab algn="l" pos="2952720"/>
                <a:tab algn="l" pos="3409920"/>
                <a:tab algn="l" pos="3867120"/>
                <a:tab algn="l" pos="4324320"/>
                <a:tab algn="l" pos="4781520"/>
                <a:tab algn="l" pos="5238720"/>
                <a:tab algn="l" pos="5695920"/>
                <a:tab algn="l" pos="6153120"/>
                <a:tab algn="l" pos="6610320"/>
                <a:tab algn="l" pos="7067520"/>
                <a:tab algn="l" pos="7524720"/>
                <a:tab algn="l" pos="7981920"/>
                <a:tab algn="l" pos="8439120"/>
                <a:tab algn="l" pos="8896320"/>
                <a:tab algn="l" pos="9353520"/>
                <a:tab algn="l" pos="9601200"/>
                <a:tab algn="l" pos="10058400"/>
                <a:tab algn="l" pos="10515600"/>
              </a:tabLst>
            </a:pPr>
            <a:fld id="{D2BFAE7F-92F1-4466-93AD-B4E9635531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D1DE42-3FEE-426D-AE2A-C961F6FDD3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9" name="Text Box 1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9520"/>
                <a:tab algn="l" pos="666720"/>
                <a:tab algn="l" pos="1123920"/>
                <a:tab algn="l" pos="1581120"/>
                <a:tab algn="l" pos="2038320"/>
                <a:tab algn="l" pos="2495520"/>
                <a:tab algn="l" pos="2952720"/>
                <a:tab algn="l" pos="3409920"/>
                <a:tab algn="l" pos="3867120"/>
                <a:tab algn="l" pos="4324320"/>
                <a:tab algn="l" pos="4781520"/>
                <a:tab algn="l" pos="5238720"/>
                <a:tab algn="l" pos="5695920"/>
                <a:tab algn="l" pos="6153120"/>
                <a:tab algn="l" pos="6610320"/>
                <a:tab algn="l" pos="7067520"/>
                <a:tab algn="l" pos="7524720"/>
                <a:tab algn="l" pos="7981920"/>
                <a:tab algn="l" pos="8439120"/>
                <a:tab algn="l" pos="8896320"/>
                <a:tab algn="l" pos="9353520"/>
                <a:tab algn="l" pos="9601200"/>
                <a:tab algn="l" pos="10058400"/>
                <a:tab algn="l" pos="10515600"/>
              </a:tabLst>
            </a:pPr>
            <a:fld id="{EFFB26C1-6580-458D-968D-73CDBF20A8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DDDA0B-AC27-4427-9092-930D5EE618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7" name="Text Box 1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9520"/>
                <a:tab algn="l" pos="666720"/>
                <a:tab algn="l" pos="1123920"/>
                <a:tab algn="l" pos="1581120"/>
                <a:tab algn="l" pos="2038320"/>
                <a:tab algn="l" pos="2495520"/>
                <a:tab algn="l" pos="2952720"/>
                <a:tab algn="l" pos="3409920"/>
                <a:tab algn="l" pos="3867120"/>
                <a:tab algn="l" pos="4324320"/>
                <a:tab algn="l" pos="4781520"/>
                <a:tab algn="l" pos="5238720"/>
                <a:tab algn="l" pos="5695920"/>
                <a:tab algn="l" pos="6153120"/>
                <a:tab algn="l" pos="6610320"/>
                <a:tab algn="l" pos="7067520"/>
                <a:tab algn="l" pos="7524720"/>
                <a:tab algn="l" pos="7981920"/>
                <a:tab algn="l" pos="8439120"/>
                <a:tab algn="l" pos="8896320"/>
                <a:tab algn="l" pos="9353520"/>
                <a:tab algn="l" pos="9601200"/>
                <a:tab algn="l" pos="10058400"/>
                <a:tab algn="l" pos="10515600"/>
              </a:tabLst>
            </a:pPr>
            <a:fld id="{A7509C59-62FF-481B-8BF1-AD168656FF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7387BA-D168-4D4C-96D3-D5082964C8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1" name="Text Box 1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9520"/>
                <a:tab algn="l" pos="666720"/>
                <a:tab algn="l" pos="1123920"/>
                <a:tab algn="l" pos="1581120"/>
                <a:tab algn="l" pos="2038320"/>
                <a:tab algn="l" pos="2495520"/>
                <a:tab algn="l" pos="2952720"/>
                <a:tab algn="l" pos="3409920"/>
                <a:tab algn="l" pos="3867120"/>
                <a:tab algn="l" pos="4324320"/>
                <a:tab algn="l" pos="4781520"/>
                <a:tab algn="l" pos="5238720"/>
                <a:tab algn="l" pos="5695920"/>
                <a:tab algn="l" pos="6153120"/>
                <a:tab algn="l" pos="6610320"/>
                <a:tab algn="l" pos="7067520"/>
                <a:tab algn="l" pos="7524720"/>
                <a:tab algn="l" pos="7981920"/>
                <a:tab algn="l" pos="8439120"/>
                <a:tab algn="l" pos="8896320"/>
                <a:tab algn="l" pos="9353520"/>
                <a:tab algn="l" pos="9601200"/>
                <a:tab algn="l" pos="10058400"/>
                <a:tab algn="l" pos="10515600"/>
              </a:tabLst>
            </a:pPr>
            <a:fld id="{264137EF-D96E-48F3-9776-A94EAE1374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DECE72-1717-4A5A-B455-8B24A907D8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5" name="Text Box 1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9520"/>
                <a:tab algn="l" pos="666720"/>
                <a:tab algn="l" pos="1123920"/>
                <a:tab algn="l" pos="1581120"/>
                <a:tab algn="l" pos="2038320"/>
                <a:tab algn="l" pos="2495520"/>
                <a:tab algn="l" pos="2952720"/>
                <a:tab algn="l" pos="3409920"/>
                <a:tab algn="l" pos="3867120"/>
                <a:tab algn="l" pos="4324320"/>
                <a:tab algn="l" pos="4781520"/>
                <a:tab algn="l" pos="5238720"/>
                <a:tab algn="l" pos="5695920"/>
                <a:tab algn="l" pos="6153120"/>
                <a:tab algn="l" pos="6610320"/>
                <a:tab algn="l" pos="7067520"/>
                <a:tab algn="l" pos="7524720"/>
                <a:tab algn="l" pos="7981920"/>
                <a:tab algn="l" pos="8439120"/>
                <a:tab algn="l" pos="8896320"/>
                <a:tab algn="l" pos="9353520"/>
                <a:tab algn="l" pos="9601200"/>
                <a:tab algn="l" pos="10058400"/>
                <a:tab algn="l" pos="10515600"/>
              </a:tabLst>
            </a:pPr>
            <a:fld id="{67C89E7F-859F-4788-87B4-66D435F570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D59E3B-7B97-4695-B5FD-B07235C27F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9" name="Text Box 1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9520"/>
                <a:tab algn="l" pos="666720"/>
                <a:tab algn="l" pos="1123920"/>
                <a:tab algn="l" pos="1581120"/>
                <a:tab algn="l" pos="2038320"/>
                <a:tab algn="l" pos="2495520"/>
                <a:tab algn="l" pos="2952720"/>
                <a:tab algn="l" pos="3409920"/>
                <a:tab algn="l" pos="3867120"/>
                <a:tab algn="l" pos="4324320"/>
                <a:tab algn="l" pos="4781520"/>
                <a:tab algn="l" pos="5238720"/>
                <a:tab algn="l" pos="5695920"/>
                <a:tab algn="l" pos="6153120"/>
                <a:tab algn="l" pos="6610320"/>
                <a:tab algn="l" pos="7067520"/>
                <a:tab algn="l" pos="7524720"/>
                <a:tab algn="l" pos="7981920"/>
                <a:tab algn="l" pos="8439120"/>
                <a:tab algn="l" pos="8896320"/>
                <a:tab algn="l" pos="9353520"/>
                <a:tab algn="l" pos="9601200"/>
                <a:tab algn="l" pos="10058400"/>
                <a:tab algn="l" pos="10515600"/>
              </a:tabLst>
            </a:pPr>
            <a:fld id="{040359E5-2D29-46AD-9360-EF908E7E73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16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96504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16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9920" y="160488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69920" y="3965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16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7120" y="160488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16680" y="160488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96504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7120" y="396504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16680" y="396504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16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16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16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9920" y="160488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16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2880"/>
            <a:ext cx="8221680" cy="52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16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9920" y="160488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16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16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9920" y="160488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69920" y="3965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16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9920" y="160488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16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96504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16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9920" y="160488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69920" y="3965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16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7120" y="160488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16680" y="160488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96504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7120" y="396504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16680" y="396504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16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16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16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69920" y="160488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16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16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2880"/>
            <a:ext cx="8221680" cy="52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16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9920" y="160488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16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9920" y="160488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69920" y="3965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16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9920" y="160488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16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96504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16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9920" y="160488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69920" y="3965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16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7120" y="160488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16680" y="160488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96504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7120" y="396504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16680" y="396504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16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16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16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69920" y="160488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16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69920" y="160488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16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457200" y="272880"/>
            <a:ext cx="8221680" cy="52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16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69920" y="160488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16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69920" y="160488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669920" y="3965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16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69920" y="160488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16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57200" y="396504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16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9920" y="160488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669920" y="3965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16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37120" y="160488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16680" y="160488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57200" y="396504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37120" y="396504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016680" y="396504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16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16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16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16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9920" y="160488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16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457200" y="272880"/>
            <a:ext cx="8221680" cy="52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16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9920" y="160488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16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69920" y="160488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69920" y="3965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16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9920" y="160488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16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57200" y="396504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16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9920" y="160488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69920" y="3965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2880"/>
            <a:ext cx="8221680" cy="52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16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237120" y="160488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016680" y="160488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57200" y="396504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237120" y="396504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6016680" y="396504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16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16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16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69920" y="160488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16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457200" y="272880"/>
            <a:ext cx="8221680" cy="52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16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69920" y="160488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16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69920" y="160488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669920" y="3965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16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69920" y="160488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16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9920" y="160488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16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57200" y="396504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16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9920" y="160488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669920" y="3965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16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37120" y="160488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016680" y="160488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57200" y="396504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37120" y="396504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016680" y="396504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16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9920" y="160488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69920" y="3965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16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9920" y="160488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"/>
          <p:cNvSpPr/>
          <p:nvPr/>
        </p:nvSpPr>
        <p:spPr>
          <a:xfrm>
            <a:off x="0" y="656892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ctr" pos="4471920"/>
                <a:tab algn="r" pos="8691480"/>
                <a:tab algn="l" pos="9144000"/>
                <a:tab algn="l" pos="10058400"/>
                <a:tab algn="l" pos="10515600"/>
              </a:tabLst>
            </a:pPr>
            <a:r>
              <a:rPr b="1" lang="de-DE" sz="1000" spc="-1" strike="noStrike">
                <a:solidFill>
                  <a:srgbClr val="f0000c"/>
                </a:solidFill>
                <a:latin typeface="Verdana"/>
              </a:rPr>
              <a:t>	</a:t>
            </a:r>
            <a:r>
              <a:rPr b="1" lang="de-DE" sz="1000" spc="-1" strike="noStrike">
                <a:solidFill>
                  <a:srgbClr val="f0000c"/>
                </a:solidFill>
                <a:latin typeface="Verdana"/>
              </a:rPr>
              <a:t>	</a:t>
            </a:r>
            <a:r>
              <a:rPr b="1" lang="de-DE" sz="1000" spc="-1" strike="noStrike">
                <a:solidFill>
                  <a:srgbClr val="f0000c"/>
                </a:solidFill>
                <a:latin typeface="Verdana"/>
              </a:rPr>
              <a:t>- </a:t>
            </a:r>
            <a:fld id="{52B8A0C5-82DD-4A08-9713-114FF5F21BE0}" type="slidenum">
              <a:rPr b="1" lang="de-DE" sz="800" spc="-1" strike="noStrike">
                <a:solidFill>
                  <a:srgbClr val="f0000c"/>
                </a:solidFill>
                <a:latin typeface="Verdana"/>
              </a:rPr>
              <a:t>&lt;number&gt;</a:t>
            </a:fld>
            <a:r>
              <a:rPr b="1" lang="de-DE" sz="1000" spc="-1" strike="noStrike">
                <a:solidFill>
                  <a:srgbClr val="f0000c"/>
                </a:solidFill>
                <a:latin typeface="Verdana"/>
              </a:rPr>
              <a:t> -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1"/>
          <p:cNvSpPr/>
          <p:nvPr/>
        </p:nvSpPr>
        <p:spPr>
          <a:xfrm>
            <a:off x="0" y="656892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ctr" pos="4471920"/>
                <a:tab algn="r" pos="8691480"/>
                <a:tab algn="l" pos="9144000"/>
                <a:tab algn="l" pos="10058400"/>
                <a:tab algn="l" pos="10515600"/>
              </a:tabLst>
            </a:pPr>
            <a:r>
              <a:rPr b="1" lang="de-DE" sz="1000" spc="-1" strike="noStrike">
                <a:solidFill>
                  <a:srgbClr val="f0000c"/>
                </a:solidFill>
                <a:latin typeface="Verdana"/>
              </a:rPr>
              <a:t>	</a:t>
            </a:r>
            <a:r>
              <a:rPr b="1" lang="de-DE" sz="1000" spc="-1" strike="noStrike">
                <a:solidFill>
                  <a:srgbClr val="f0000c"/>
                </a:solidFill>
                <a:latin typeface="Verdana"/>
              </a:rPr>
              <a:t>	</a:t>
            </a:r>
            <a:r>
              <a:rPr b="1" lang="de-DE" sz="1000" spc="-1" strike="noStrike">
                <a:solidFill>
                  <a:srgbClr val="f0000c"/>
                </a:solidFill>
                <a:latin typeface="Verdana"/>
              </a:rPr>
              <a:t>- </a:t>
            </a:r>
            <a:fld id="{B713DA41-5525-42A8-BAA7-74E4F95DAC9A}" type="slidenum">
              <a:rPr b="1" lang="de-DE" sz="800" spc="-1" strike="noStrike">
                <a:solidFill>
                  <a:srgbClr val="f0000c"/>
                </a:solidFill>
                <a:latin typeface="Verdana"/>
              </a:rPr>
              <a:t>&lt;number&gt;</a:t>
            </a:fld>
            <a:r>
              <a:rPr b="1" lang="de-DE" sz="1000" spc="-1" strike="noStrike">
                <a:solidFill>
                  <a:srgbClr val="f0000c"/>
                </a:solidFill>
                <a:latin typeface="Verdana"/>
              </a:rPr>
              <a:t> -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8" name="Picture 2" descr=""/>
          <p:cNvPicPr/>
          <p:nvPr/>
        </p:nvPicPr>
        <p:blipFill>
          <a:blip r:embed="rId2"/>
          <a:stretch/>
        </p:blipFill>
        <p:spPr>
          <a:xfrm>
            <a:off x="7596360" y="333360"/>
            <a:ext cx="896760" cy="12207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4920" cy="11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c2c84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6840" y="160452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1"/>
          <p:cNvSpPr/>
          <p:nvPr/>
        </p:nvSpPr>
        <p:spPr>
          <a:xfrm>
            <a:off x="0" y="656892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ctr" pos="4471920"/>
                <a:tab algn="r" pos="8691480"/>
                <a:tab algn="l" pos="9144000"/>
                <a:tab algn="l" pos="10058400"/>
                <a:tab algn="l" pos="10515600"/>
              </a:tabLst>
            </a:pPr>
            <a:r>
              <a:rPr b="1" lang="de-DE" sz="1000" spc="-1" strike="noStrike">
                <a:solidFill>
                  <a:srgbClr val="f0000c"/>
                </a:solidFill>
                <a:latin typeface="Verdana"/>
              </a:rPr>
              <a:t>	</a:t>
            </a:r>
            <a:r>
              <a:rPr b="1" lang="de-DE" sz="1000" spc="-1" strike="noStrike">
                <a:solidFill>
                  <a:srgbClr val="f0000c"/>
                </a:solidFill>
                <a:latin typeface="Verdana"/>
              </a:rPr>
              <a:t>	</a:t>
            </a:r>
            <a:r>
              <a:rPr b="1" lang="de-DE" sz="1000" spc="-1" strike="noStrike">
                <a:solidFill>
                  <a:srgbClr val="f0000c"/>
                </a:solidFill>
                <a:latin typeface="Verdana"/>
              </a:rPr>
              <a:t>- </a:t>
            </a:r>
            <a:fld id="{670D0C07-58CE-43A7-9E2A-FD69CCB3A88A}" type="slidenum">
              <a:rPr b="1" lang="de-DE" sz="800" spc="-1" strike="noStrike">
                <a:solidFill>
                  <a:srgbClr val="f0000c"/>
                </a:solidFill>
                <a:latin typeface="Verdana"/>
              </a:rPr>
              <a:t>&lt;number&gt;</a:t>
            </a:fld>
            <a:r>
              <a:rPr b="1" lang="de-DE" sz="1000" spc="-1" strike="noStrike">
                <a:solidFill>
                  <a:srgbClr val="f0000c"/>
                </a:solidFill>
                <a:latin typeface="Verdana"/>
              </a:rPr>
              <a:t> -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8" name="Picture 2" descr=""/>
          <p:cNvPicPr/>
          <p:nvPr/>
        </p:nvPicPr>
        <p:blipFill>
          <a:blip r:embed="rId2"/>
          <a:stretch/>
        </p:blipFill>
        <p:spPr>
          <a:xfrm>
            <a:off x="7885080" y="189000"/>
            <a:ext cx="897120" cy="12207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1"/>
          <p:cNvSpPr/>
          <p:nvPr/>
        </p:nvSpPr>
        <p:spPr>
          <a:xfrm>
            <a:off x="0" y="656892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ctr" pos="4471920"/>
                <a:tab algn="r" pos="8691480"/>
                <a:tab algn="l" pos="9144000"/>
                <a:tab algn="l" pos="10058400"/>
                <a:tab algn="l" pos="10515600"/>
              </a:tabLst>
            </a:pPr>
            <a:r>
              <a:rPr b="1" lang="de-DE" sz="1000" spc="-1" strike="noStrike">
                <a:solidFill>
                  <a:srgbClr val="f0000c"/>
                </a:solidFill>
                <a:latin typeface="Verdana"/>
              </a:rPr>
              <a:t>	</a:t>
            </a:r>
            <a:r>
              <a:rPr b="1" lang="de-DE" sz="1000" spc="-1" strike="noStrike">
                <a:solidFill>
                  <a:srgbClr val="f0000c"/>
                </a:solidFill>
                <a:latin typeface="Verdana"/>
              </a:rPr>
              <a:t>	</a:t>
            </a:r>
            <a:r>
              <a:rPr b="1" lang="de-DE" sz="1000" spc="-1" strike="noStrike">
                <a:solidFill>
                  <a:srgbClr val="f0000c"/>
                </a:solidFill>
                <a:latin typeface="Verdana"/>
              </a:rPr>
              <a:t>- </a:t>
            </a:r>
            <a:fld id="{52CA037B-07AD-4FC6-BF36-98093E1C4D12}" type="slidenum">
              <a:rPr b="1" lang="de-DE" sz="800" spc="-1" strike="noStrike">
                <a:solidFill>
                  <a:srgbClr val="f0000c"/>
                </a:solidFill>
                <a:latin typeface="Verdana"/>
              </a:rPr>
              <a:t>&lt;number&gt;</a:t>
            </a:fld>
            <a:r>
              <a:rPr b="1" lang="de-DE" sz="1000" spc="-1" strike="noStrike">
                <a:solidFill>
                  <a:srgbClr val="f0000c"/>
                </a:solidFill>
                <a:latin typeface="Verdana"/>
              </a:rPr>
              <a:t> -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6" name="Picture 2" descr=""/>
          <p:cNvPicPr/>
          <p:nvPr/>
        </p:nvPicPr>
        <p:blipFill>
          <a:blip r:embed="rId2"/>
          <a:srcRect l="33153" t="14477" r="33707" b="0"/>
          <a:stretch/>
        </p:blipFill>
        <p:spPr>
          <a:xfrm>
            <a:off x="7885080" y="189000"/>
            <a:ext cx="862200" cy="107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1"/>
          <p:cNvSpPr/>
          <p:nvPr/>
        </p:nvSpPr>
        <p:spPr>
          <a:xfrm>
            <a:off x="0" y="656892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ctr" pos="4471920"/>
                <a:tab algn="r" pos="8691480"/>
                <a:tab algn="l" pos="9144000"/>
                <a:tab algn="l" pos="10058400"/>
                <a:tab algn="l" pos="10515600"/>
              </a:tabLst>
            </a:pPr>
            <a:r>
              <a:rPr b="1" lang="de-DE" sz="1000" spc="-1" strike="noStrike">
                <a:solidFill>
                  <a:srgbClr val="f0000c"/>
                </a:solidFill>
                <a:latin typeface="Verdana"/>
              </a:rPr>
              <a:t>	</a:t>
            </a:r>
            <a:r>
              <a:rPr b="1" lang="de-DE" sz="1000" spc="-1" strike="noStrike">
                <a:solidFill>
                  <a:srgbClr val="f0000c"/>
                </a:solidFill>
                <a:latin typeface="Verdana"/>
              </a:rPr>
              <a:t>	</a:t>
            </a:r>
            <a:r>
              <a:rPr b="1" lang="de-DE" sz="1000" spc="-1" strike="noStrike">
                <a:solidFill>
                  <a:srgbClr val="f0000c"/>
                </a:solidFill>
                <a:latin typeface="Verdana"/>
              </a:rPr>
              <a:t>- </a:t>
            </a:r>
            <a:fld id="{A49E0F85-FB39-4B2A-84FC-96349C6ECCAD}" type="slidenum">
              <a:rPr b="1" lang="de-DE" sz="800" spc="-1" strike="noStrike">
                <a:solidFill>
                  <a:srgbClr val="f0000c"/>
                </a:solidFill>
                <a:latin typeface="Verdana"/>
              </a:rPr>
              <a:t>&lt;number&gt;</a:t>
            </a:fld>
            <a:r>
              <a:rPr b="1" lang="de-DE" sz="1000" spc="-1" strike="noStrike">
                <a:solidFill>
                  <a:srgbClr val="f0000c"/>
                </a:solidFill>
                <a:latin typeface="Verdana"/>
              </a:rPr>
              <a:t> -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Line 2"/>
          <p:cNvSpPr/>
          <p:nvPr/>
        </p:nvSpPr>
        <p:spPr>
          <a:xfrm>
            <a:off x="457200" y="1341360"/>
            <a:ext cx="8143920" cy="1800"/>
          </a:xfrm>
          <a:prstGeom prst="line">
            <a:avLst/>
          </a:prstGeom>
          <a:ln cap="sq" w="38160">
            <a:solidFill>
              <a:srgbClr val="f0000c"/>
            </a:solidFill>
            <a:custDash>
              <a:ds d="100000" sp="1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20000"/>
              </a:lnSpc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5" name="Picture 3" descr=""/>
          <p:cNvPicPr/>
          <p:nvPr/>
        </p:nvPicPr>
        <p:blipFill>
          <a:blip r:embed="rId2"/>
          <a:stretch/>
        </p:blipFill>
        <p:spPr>
          <a:xfrm>
            <a:off x="7704000" y="120600"/>
            <a:ext cx="897120" cy="12207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16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c2c84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ext Box 1"/>
          <p:cNvSpPr/>
          <p:nvPr/>
        </p:nvSpPr>
        <p:spPr>
          <a:xfrm>
            <a:off x="0" y="656892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ctr" pos="4471920"/>
                <a:tab algn="r" pos="8691480"/>
                <a:tab algn="l" pos="9144000"/>
                <a:tab algn="l" pos="10058400"/>
                <a:tab algn="l" pos="10515600"/>
              </a:tabLst>
            </a:pPr>
            <a:r>
              <a:rPr b="1" lang="de-DE" sz="1000" spc="-1" strike="noStrike">
                <a:solidFill>
                  <a:srgbClr val="f0000c"/>
                </a:solidFill>
                <a:latin typeface="Verdana"/>
              </a:rPr>
              <a:t>	</a:t>
            </a:r>
            <a:r>
              <a:rPr b="1" lang="de-DE" sz="1000" spc="-1" strike="noStrike">
                <a:solidFill>
                  <a:srgbClr val="f0000c"/>
                </a:solidFill>
                <a:latin typeface="Verdana"/>
              </a:rPr>
              <a:t>	</a:t>
            </a:r>
            <a:r>
              <a:rPr b="1" lang="de-DE" sz="1000" spc="-1" strike="noStrike">
                <a:solidFill>
                  <a:srgbClr val="f0000c"/>
                </a:solidFill>
                <a:latin typeface="Verdana"/>
              </a:rPr>
              <a:t>- </a:t>
            </a:r>
            <a:fld id="{3E2E3B23-8330-4E62-BE50-0FCC0F4E41C2}" type="slidenum">
              <a:rPr b="1" lang="de-DE" sz="800" spc="-1" strike="noStrike">
                <a:solidFill>
                  <a:srgbClr val="f0000c"/>
                </a:solidFill>
                <a:latin typeface="Verdana"/>
              </a:rPr>
              <a:t>&lt;number&gt;</a:t>
            </a:fld>
            <a:r>
              <a:rPr b="1" lang="de-DE" sz="1000" spc="-1" strike="noStrike">
                <a:solidFill>
                  <a:srgbClr val="f0000c"/>
                </a:solidFill>
                <a:latin typeface="Verdana"/>
              </a:rPr>
              <a:t> -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5" name="Picture 2" descr=""/>
          <p:cNvPicPr/>
          <p:nvPr/>
        </p:nvPicPr>
        <p:blipFill>
          <a:blip r:embed="rId2"/>
          <a:stretch/>
        </p:blipFill>
        <p:spPr>
          <a:xfrm>
            <a:off x="7956720" y="115920"/>
            <a:ext cx="896760" cy="12207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50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1"/>
          <p:cNvSpPr/>
          <p:nvPr/>
        </p:nvSpPr>
        <p:spPr>
          <a:xfrm>
            <a:off x="152280" y="6248520"/>
            <a:ext cx="3276720" cy="5331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Text Box 4"/>
          <p:cNvSpPr/>
          <p:nvPr/>
        </p:nvSpPr>
        <p:spPr>
          <a:xfrm>
            <a:off x="11160" y="4254480"/>
            <a:ext cx="9136080" cy="128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PHOTOTHERAP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Docent Dr. Igor Simanic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6" name="Rectangle 5"/>
          <p:cNvSpPr/>
          <p:nvPr/>
        </p:nvSpPr>
        <p:spPr>
          <a:xfrm>
            <a:off x="152280" y="0"/>
            <a:ext cx="8928360" cy="22050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Rectangle 6"/>
          <p:cNvSpPr/>
          <p:nvPr/>
        </p:nvSpPr>
        <p:spPr>
          <a:xfrm>
            <a:off x="2340000" y="4437000"/>
            <a:ext cx="216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" name="Text Box 9"/>
          <p:cNvSpPr/>
          <p:nvPr/>
        </p:nvSpPr>
        <p:spPr>
          <a:xfrm>
            <a:off x="-61920" y="2422440"/>
            <a:ext cx="913608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University of Kragujevac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he Medical Faculty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ntegrated Academic Studies of Medicin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hysical medicine and rehabilitat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49" name="Picture 10" descr=""/>
          <p:cNvPicPr/>
          <p:nvPr/>
        </p:nvPicPr>
        <p:blipFill>
          <a:blip r:embed="rId1"/>
          <a:stretch/>
        </p:blipFill>
        <p:spPr>
          <a:xfrm>
            <a:off x="3780000" y="222120"/>
            <a:ext cx="1584000" cy="20545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0000c"/>
                </a:solidFill>
                <a:latin typeface="Verdana"/>
              </a:rPr>
              <a:t>INDICATIONS FOR HELIOTHERAP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8" name="Text Box 2"/>
          <p:cNvSpPr/>
          <p:nvPr/>
        </p:nvSpPr>
        <p:spPr>
          <a:xfrm>
            <a:off x="457200" y="1484280"/>
            <a:ext cx="814392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34800" indent="-334800">
              <a:lnSpc>
                <a:spcPct val="100000"/>
              </a:lnSpc>
              <a:spcBef>
                <a:spcPts val="18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Reconvalescence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18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Hypochromic anemia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18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fections of the respiratory tract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18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soriasis; Acne vulgaris; Е</a:t>
            </a: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czema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18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Tuberculosis of the bone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, joints, skin (quiet forms)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18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Rachitis and osteomalacia; Osteoporosis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18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egenerative rheumatic disease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18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esions of the peripheral motor neuron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18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Vegetative disorders etc</a:t>
            </a: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0000c"/>
                </a:solidFill>
                <a:latin typeface="Verdana"/>
              </a:rPr>
              <a:t>CONTRAINDICATIONS FOR HELIOTHERAP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0" name="Text Box 2"/>
          <p:cNvSpPr/>
          <p:nvPr/>
        </p:nvSpPr>
        <p:spPr>
          <a:xfrm>
            <a:off x="457200" y="1484280"/>
            <a:ext cx="814392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34800" indent="-334800">
              <a:lnSpc>
                <a:spcPct val="150000"/>
              </a:lnSpc>
              <a:spcBef>
                <a:spcPts val="18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ENERA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50000"/>
              </a:lnSpc>
              <a:spcBef>
                <a:spcPts val="18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tive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lung tuberculosi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50000"/>
              </a:lnSpc>
              <a:spcBef>
                <a:spcPts val="18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ditions after cerebrovascular insul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50000"/>
              </a:lnSpc>
              <a:spcBef>
                <a:spcPts val="18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hotodermatosi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Text Box 1"/>
          <p:cNvSpPr/>
          <p:nvPr/>
        </p:nvSpPr>
        <p:spPr>
          <a:xfrm>
            <a:off x="531720" y="2924280"/>
            <a:ext cx="8361360" cy="13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HROMOTHERAP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2" name="Line 2"/>
          <p:cNvSpPr/>
          <p:nvPr/>
        </p:nvSpPr>
        <p:spPr>
          <a:xfrm>
            <a:off x="531720" y="4292640"/>
            <a:ext cx="8143920" cy="1440"/>
          </a:xfrm>
          <a:prstGeom prst="line">
            <a:avLst/>
          </a:prstGeom>
          <a:ln cap="sq" w="38160">
            <a:solidFill>
              <a:srgbClr val="f0000c"/>
            </a:solidFill>
            <a:custDash>
              <a:ds d="100000" sp="1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20000"/>
              </a:lnSpc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0000c"/>
                </a:solidFill>
                <a:latin typeface="Verdana"/>
              </a:rPr>
              <a:t>Chromotherap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84" name="Text Box 2" descr=""/>
          <p:cNvPicPr/>
          <p:nvPr/>
        </p:nvPicPr>
        <p:blipFill>
          <a:blip r:embed="rId1"/>
          <a:stretch/>
        </p:blipFill>
        <p:spPr>
          <a:xfrm>
            <a:off x="384120" y="1481040"/>
            <a:ext cx="8442360" cy="497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0000c"/>
                </a:solidFill>
                <a:latin typeface="Verdana"/>
              </a:rPr>
              <a:t>Chromotherap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6" name="Text Box 2"/>
          <p:cNvSpPr/>
          <p:nvPr/>
        </p:nvSpPr>
        <p:spPr>
          <a:xfrm>
            <a:off x="457200" y="1484280"/>
            <a:ext cx="829152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34800" indent="-334800">
              <a:lnSpc>
                <a:spcPct val="125000"/>
              </a:lnSpc>
              <a:spcBef>
                <a:spcPts val="24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 u="sng">
                <a:solidFill>
                  <a:srgbClr val="ff0000"/>
                </a:solidFill>
                <a:uFillTx/>
                <a:latin typeface="Verdana"/>
              </a:rPr>
              <a:t>COLD COLORS</a:t>
            </a:r>
            <a:r>
              <a:rPr b="1" lang="en-US" sz="22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(blue, velvet and green) have a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sedative effect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735120" indent="-277920">
              <a:lnSpc>
                <a:spcPct val="100000"/>
              </a:lnSpc>
              <a:spcBef>
                <a:spcPts val="2401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3667ed"/>
                </a:solidFill>
                <a:latin typeface="Verdana"/>
                <a:ea typeface="Microsoft YaHei"/>
              </a:rPr>
              <a:t>Blue color</a:t>
            </a:r>
            <a:r>
              <a:rPr b="1" lang="de-DE" sz="2200" spc="-1" strike="noStrike">
                <a:solidFill>
                  <a:srgbClr val="3667ed"/>
                </a:solidFill>
                <a:latin typeface="Verdana"/>
                <a:ea typeface="Microsoft YaHei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Microsoft YaHei"/>
              </a:rPr>
              <a:t>for color neutralization </a:t>
            </a:r>
            <a:r>
              <a:rPr b="0" lang="de-DE" sz="2200" spc="-1" strike="noStrike">
                <a:solidFill>
                  <a:srgbClr val="000000"/>
                </a:solidFill>
                <a:latin typeface="Verdana"/>
                <a:ea typeface="Microsoft YaHei"/>
              </a:rPr>
              <a:t>(icterus neonatorum)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Microsoft YaHei"/>
              </a:rPr>
              <a:t>; improves motor-coordinative processes;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735120" indent="-277920">
              <a:lnSpc>
                <a:spcPct val="100000"/>
              </a:lnSpc>
              <a:spcBef>
                <a:spcPts val="2401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520018"/>
                </a:solidFill>
                <a:latin typeface="Verdana"/>
                <a:ea typeface="Microsoft YaHei"/>
              </a:rPr>
              <a:t>Velvet color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Microsoft YaHei"/>
              </a:rPr>
              <a:t>slows the breathing rhythm</a:t>
            </a:r>
            <a:r>
              <a:rPr b="0" lang="de-DE" sz="2200" spc="-1" strike="noStrike">
                <a:solidFill>
                  <a:srgbClr val="000000"/>
                </a:solidFill>
                <a:latin typeface="Verdana"/>
                <a:ea typeface="Microsoft YaHei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Microsoft YaHei"/>
              </a:rPr>
              <a:t>but deepens and increases ventilation capacity;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735120" indent="-277920">
              <a:lnSpc>
                <a:spcPct val="100000"/>
              </a:lnSpc>
              <a:spcBef>
                <a:spcPts val="2401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b050"/>
                </a:solidFill>
                <a:latin typeface="Verdana"/>
                <a:ea typeface="Microsoft YaHei"/>
              </a:rPr>
              <a:t>Green color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Microsoft YaHei"/>
              </a:rPr>
              <a:t>has a calming effect and improves anabolic processes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Text Box 1"/>
          <p:cNvSpPr/>
          <p:nvPr/>
        </p:nvSpPr>
        <p:spPr>
          <a:xfrm>
            <a:off x="531720" y="2924280"/>
            <a:ext cx="8361360" cy="13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ULTRAVIOLET RAY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8" name="Line 2"/>
          <p:cNvSpPr/>
          <p:nvPr/>
        </p:nvSpPr>
        <p:spPr>
          <a:xfrm>
            <a:off x="531720" y="4292640"/>
            <a:ext cx="8143920" cy="1440"/>
          </a:xfrm>
          <a:prstGeom prst="line">
            <a:avLst/>
          </a:prstGeom>
          <a:ln cap="sq" w="38160">
            <a:solidFill>
              <a:srgbClr val="f0000c"/>
            </a:solidFill>
            <a:custDash>
              <a:ds d="100000" sp="1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20000"/>
              </a:lnSpc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0000c"/>
                </a:solidFill>
                <a:latin typeface="Verdana"/>
              </a:rPr>
              <a:t>UV RAY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0" name="Text Box 2"/>
          <p:cNvSpPr/>
          <p:nvPr/>
        </p:nvSpPr>
        <p:spPr>
          <a:xfrm>
            <a:off x="457200" y="1484280"/>
            <a:ext cx="814392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1280" indent="-334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1280" indent="-334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1280" indent="-334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1280" indent="-334800">
              <a:lnSpc>
                <a:spcPct val="1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Verdana"/>
              </a:rPr>
              <a:t>Penetration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Verdana"/>
              </a:rPr>
              <a:t>0,1-0,5 </a:t>
            </a:r>
            <a:r>
              <a:rPr b="1" lang="sr-Latn-CS" sz="2400" spc="-1" strike="noStrike">
                <a:solidFill>
                  <a:srgbClr val="000000"/>
                </a:solidFill>
                <a:latin typeface="Verdana"/>
              </a:rPr>
              <a:t>mm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1280" indent="-334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91" name="Group 3"/>
          <p:cNvGrpSpPr/>
          <p:nvPr/>
        </p:nvGrpSpPr>
        <p:grpSpPr>
          <a:xfrm>
            <a:off x="538200" y="1773360"/>
            <a:ext cx="8058600" cy="1906560"/>
            <a:chOff x="538200" y="1773360"/>
            <a:chExt cx="8058600" cy="1906560"/>
          </a:xfrm>
        </p:grpSpPr>
        <p:cxnSp>
          <p:nvCxnSpPr>
            <p:cNvPr id="292" name="AutoShape 4"/>
            <p:cNvCxnSpPr/>
            <p:nvPr/>
          </p:nvCxnSpPr>
          <p:spPr>
            <a:xfrm>
              <a:off x="538200" y="2131560"/>
              <a:ext cx="8058960" cy="1080"/>
            </a:xfrm>
            <a:prstGeom prst="straightConnector1">
              <a:avLst/>
            </a:prstGeom>
            <a:ln cap="sq" w="12600">
              <a:solidFill>
                <a:srgbClr val="000000"/>
              </a:solidFill>
              <a:miter/>
              <a:headEnd len="med" type="triangle" w="lg"/>
              <a:tailEnd len="med" type="triangle" w="lg"/>
            </a:ln>
          </p:spPr>
        </p:cxnSp>
        <p:cxnSp>
          <p:nvCxnSpPr>
            <p:cNvPr id="293" name="AutoShape 5"/>
            <p:cNvCxnSpPr/>
            <p:nvPr/>
          </p:nvCxnSpPr>
          <p:spPr>
            <a:xfrm>
              <a:off x="538200" y="2924640"/>
              <a:ext cx="8058960" cy="1080"/>
            </a:xfrm>
            <a:prstGeom prst="straightConnector1">
              <a:avLst/>
            </a:prstGeom>
            <a:ln cap="sq" w="12600">
              <a:solidFill>
                <a:srgbClr val="000000"/>
              </a:solidFill>
              <a:miter/>
              <a:headEnd len="med" type="triangle" w="lg"/>
              <a:tailEnd len="med" type="triangle" w="lg"/>
            </a:ln>
          </p:spPr>
        </p:cxnSp>
        <p:sp>
          <p:nvSpPr>
            <p:cNvPr id="294" name="Line 6"/>
            <p:cNvSpPr/>
            <p:nvPr/>
          </p:nvSpPr>
          <p:spPr>
            <a:xfrm>
              <a:off x="2146320" y="2133720"/>
              <a:ext cx="0" cy="78444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spcAft>
                  <a:spcPts val="45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95" name="Line 7"/>
            <p:cNvSpPr/>
            <p:nvPr/>
          </p:nvSpPr>
          <p:spPr>
            <a:xfrm>
              <a:off x="3743280" y="2133720"/>
              <a:ext cx="0" cy="78444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spcAft>
                  <a:spcPts val="45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96" name="Line 8"/>
            <p:cNvSpPr/>
            <p:nvPr/>
          </p:nvSpPr>
          <p:spPr>
            <a:xfrm>
              <a:off x="5337000" y="2133720"/>
              <a:ext cx="0" cy="78444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spcAft>
                  <a:spcPts val="45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97" name="Line 9"/>
            <p:cNvSpPr/>
            <p:nvPr/>
          </p:nvSpPr>
          <p:spPr>
            <a:xfrm>
              <a:off x="6935760" y="2133720"/>
              <a:ext cx="0" cy="78444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spcAft>
                  <a:spcPts val="45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98" name="Text Box 10"/>
            <p:cNvSpPr/>
            <p:nvPr/>
          </p:nvSpPr>
          <p:spPr>
            <a:xfrm>
              <a:off x="3962880" y="1773360"/>
              <a:ext cx="1198800" cy="33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spcAft>
                  <a:spcPts val="326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Verdana"/>
                </a:rPr>
                <a:t>280 - 315 nm</a:t>
              </a:r>
              <a:endParaRPr b="0" lang="en-US" sz="13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99" name="Text Box 11"/>
            <p:cNvSpPr/>
            <p:nvPr/>
          </p:nvSpPr>
          <p:spPr>
            <a:xfrm>
              <a:off x="5547240" y="1773360"/>
              <a:ext cx="1198800" cy="33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spcAft>
                  <a:spcPts val="326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Verdana"/>
                </a:rPr>
                <a:t>315 - 380 nm</a:t>
              </a:r>
              <a:endParaRPr b="0" lang="en-US" sz="13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00" name="Text Box 12"/>
            <p:cNvSpPr/>
            <p:nvPr/>
          </p:nvSpPr>
          <p:spPr>
            <a:xfrm>
              <a:off x="2385360" y="1773360"/>
              <a:ext cx="1245960" cy="33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spcAft>
                  <a:spcPts val="326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Verdana"/>
                </a:rPr>
                <a:t>13,6 - 280 nm</a:t>
              </a:r>
              <a:endParaRPr b="0" lang="en-US" sz="13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01" name="Text Box 13"/>
            <p:cNvSpPr/>
            <p:nvPr/>
          </p:nvSpPr>
          <p:spPr>
            <a:xfrm>
              <a:off x="593280" y="3069360"/>
              <a:ext cx="805680" cy="33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spcAft>
                  <a:spcPts val="326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Verdana"/>
                </a:rPr>
                <a:t>Х - RAYS</a:t>
              </a:r>
              <a:endParaRPr b="0" lang="en-US" sz="13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02" name="Text Box 14"/>
            <p:cNvSpPr/>
            <p:nvPr/>
          </p:nvSpPr>
          <p:spPr>
            <a:xfrm>
              <a:off x="7279920" y="3069360"/>
              <a:ext cx="767520" cy="61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spcAft>
                  <a:spcPts val="326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Verdana"/>
                </a:rPr>
                <a:t>VISIBLE</a:t>
              </a:r>
              <a:endParaRPr b="0" lang="en-US" sz="1300" spc="-1" strike="noStrike">
                <a:solidFill>
                  <a:srgbClr val="ffffff"/>
                </a:solidFill>
                <a:latin typeface="Verdana"/>
              </a:endParaRPr>
            </a:p>
            <a:p>
              <a:pPr>
                <a:lnSpc>
                  <a:spcPct val="120000"/>
                </a:lnSpc>
                <a:spcAft>
                  <a:spcPts val="326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Verdana"/>
                </a:rPr>
                <a:t>RAYS</a:t>
              </a:r>
              <a:endParaRPr b="0" lang="en-US" sz="13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03" name="Text Box 15"/>
            <p:cNvSpPr/>
            <p:nvPr/>
          </p:nvSpPr>
          <p:spPr>
            <a:xfrm>
              <a:off x="4220640" y="2364120"/>
              <a:ext cx="577080" cy="33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spcAft>
                  <a:spcPts val="326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Verdana"/>
                </a:rPr>
                <a:t>UV-B</a:t>
              </a:r>
              <a:endParaRPr b="0" lang="en-US" sz="13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04" name="Text Box 16"/>
            <p:cNvSpPr/>
            <p:nvPr/>
          </p:nvSpPr>
          <p:spPr>
            <a:xfrm>
              <a:off x="5902200" y="2364120"/>
              <a:ext cx="579960" cy="33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spcAft>
                  <a:spcPts val="326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Verdana"/>
                </a:rPr>
                <a:t>UV-А</a:t>
              </a:r>
              <a:endParaRPr b="0" lang="en-US" sz="13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05" name="Text Box 17"/>
            <p:cNvSpPr/>
            <p:nvPr/>
          </p:nvSpPr>
          <p:spPr>
            <a:xfrm>
              <a:off x="2655360" y="2364120"/>
              <a:ext cx="570960" cy="33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spcAft>
                  <a:spcPts val="326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Verdana"/>
                </a:rPr>
                <a:t>UV-C</a:t>
              </a:r>
              <a:endParaRPr b="0" lang="en-US" sz="13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0000c"/>
                </a:solidFill>
                <a:latin typeface="Verdana"/>
              </a:rPr>
              <a:t>Transition of UV rays through atmospher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7" name="Text Box 2"/>
          <p:cNvSpPr/>
          <p:nvPr/>
        </p:nvSpPr>
        <p:spPr>
          <a:xfrm>
            <a:off x="457200" y="1484280"/>
            <a:ext cx="505944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34800" indent="-334800">
              <a:lnSpc>
                <a:spcPct val="100000"/>
              </a:lnSpc>
              <a:spcBef>
                <a:spcPts val="24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Verdana"/>
              </a:rPr>
              <a:t>UVC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radiation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is almost completely absorbed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y the ozone layer and by atmosphere oxygen (О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) 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24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Verdana"/>
              </a:rPr>
              <a:t>UVB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radiation is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greatly absorbed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y the ozone layer 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24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Verdana"/>
              </a:rPr>
              <a:t>UVA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radiation reaches great amounts in the earth’s surface, because it is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poorly absorbed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y the ozone layer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0000c"/>
                </a:solidFill>
                <a:latin typeface="Verdana"/>
              </a:rPr>
              <a:t>Sources of UV ray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Text Box 2"/>
          <p:cNvSpPr/>
          <p:nvPr/>
        </p:nvSpPr>
        <p:spPr>
          <a:xfrm>
            <a:off x="457200" y="1484280"/>
            <a:ext cx="814392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34800" indent="-334800">
              <a:lnSpc>
                <a:spcPct val="1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Natural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Sunligh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11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rtificial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35120" indent="-277920">
              <a:lnSpc>
                <a:spcPct val="100000"/>
              </a:lnSpc>
              <a:spcBef>
                <a:spcPts val="1199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  <a:ea typeface="Microsoft YaHei"/>
              </a:rPr>
              <a:t>thermal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Microsoft YaHei"/>
              </a:rPr>
              <a:t>- are not used in therapy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735120" indent="-277920">
              <a:lnSpc>
                <a:spcPct val="100000"/>
              </a:lnSpc>
              <a:spcBef>
                <a:spcPts val="1199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  <a:ea typeface="Microsoft YaHei"/>
              </a:rPr>
              <a:t>luminiscent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Microsoft YaHei"/>
              </a:rPr>
              <a:t>– quartz lamps with a mercury arc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0000c"/>
                </a:solidFill>
                <a:latin typeface="Verdana"/>
              </a:rPr>
              <a:t>QUARTZ LAMP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11" name="Picture 2" descr=""/>
          <p:cNvPicPr/>
          <p:nvPr/>
        </p:nvPicPr>
        <p:blipFill>
          <a:blip r:embed="rId1"/>
          <a:stretch/>
        </p:blipFill>
        <p:spPr>
          <a:xfrm>
            <a:off x="4572000" y="2060640"/>
            <a:ext cx="3816360" cy="368784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3" descr=""/>
          <p:cNvPicPr/>
          <p:nvPr/>
        </p:nvPicPr>
        <p:blipFill>
          <a:blip r:embed="rId2"/>
          <a:srcRect l="47903" t="-418" r="0" b="0"/>
          <a:stretch/>
        </p:blipFill>
        <p:spPr>
          <a:xfrm>
            <a:off x="826920" y="1916280"/>
            <a:ext cx="2563920" cy="4130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0000c"/>
                </a:solidFill>
                <a:latin typeface="Verdana"/>
              </a:rPr>
              <a:t>BASIC TERM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1" name="Text Box 2"/>
          <p:cNvSpPr/>
          <p:nvPr/>
        </p:nvSpPr>
        <p:spPr>
          <a:xfrm>
            <a:off x="428760" y="1357200"/>
            <a:ext cx="843588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4800" indent="-334800">
              <a:lnSpc>
                <a:spcPct val="100000"/>
              </a:lnSpc>
              <a:spcBef>
                <a:spcPts val="11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HOTOTHERAPY</a:t>
            </a: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use of the light energy of the Sun or artificial sources of ligh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11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ight belongs to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electromagnetic spectrum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11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t consists of the particles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hotons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11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size 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(Е)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f the light quantum depends on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l-GR" sz="2000" spc="-1" strike="noStrike">
                <a:solidFill>
                  <a:srgbClr val="000000"/>
                </a:solidFill>
                <a:latin typeface="Verdana"/>
              </a:rPr>
              <a:t>λ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d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i="1" lang="de-DE" sz="2000" spc="-1" strike="noStrike">
                <a:solidFill>
                  <a:srgbClr val="000000"/>
                </a:solidFill>
                <a:latin typeface="Verdana"/>
              </a:rPr>
              <a:t>q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ight quantum 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(Е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requency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i="1" lang="de-DE" sz="2000" spc="-1" strike="noStrike">
                <a:solidFill>
                  <a:srgbClr val="000000"/>
                </a:solidFill>
                <a:latin typeface="Verdana"/>
              </a:rPr>
              <a:t>h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lanck’s constant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=6,626 x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Verdana"/>
              </a:rPr>
              <a:t>-34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 J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i="1" lang="de-DE" sz="2000" spc="-1" strike="noStrike">
                <a:solidFill>
                  <a:srgbClr val="000000"/>
                </a:solidFill>
                <a:latin typeface="Verdana"/>
              </a:rPr>
              <a:t>c –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peed of light travelling through a vacuum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 300.000km/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λ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–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avelength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52" name="Picture 3" descr=""/>
          <p:cNvPicPr/>
          <p:nvPr/>
        </p:nvPicPr>
        <p:blipFill>
          <a:blip r:embed="rId1"/>
          <a:stretch/>
        </p:blipFill>
        <p:spPr>
          <a:xfrm>
            <a:off x="714240" y="3500280"/>
            <a:ext cx="7540920" cy="596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Text Box 1"/>
          <p:cNvSpPr/>
          <p:nvPr/>
        </p:nvSpPr>
        <p:spPr>
          <a:xfrm>
            <a:off x="412920" y="63360"/>
            <a:ext cx="699444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800"/>
            </a:br>
            <a:r>
              <a:rPr b="1" lang="en-GB" sz="2200" spc="-1" strike="noStrike">
                <a:solidFill>
                  <a:srgbClr val="f0000c"/>
                </a:solidFill>
                <a:latin typeface="Verdana"/>
              </a:rPr>
              <a:t>BIOLOGICAL AND PHYSIOLOGICAL EFFECTS OF UV RADIATION</a:t>
            </a: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" name="Text Box 2"/>
          <p:cNvSpPr/>
          <p:nvPr/>
        </p:nvSpPr>
        <p:spPr>
          <a:xfrm>
            <a:off x="395280" y="1557360"/>
            <a:ext cx="842472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4800" indent="-334800">
              <a:lnSpc>
                <a:spcPct val="90000"/>
              </a:lnSpc>
              <a:spcBef>
                <a:spcPts val="4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hotochemical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ffect </a:t>
            </a: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–</a:t>
            </a:r>
            <a:r>
              <a:rPr b="0" lang="de-DE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rovoking chemical reactions by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change of the atomic arrangement and </a:t>
            </a:r>
            <a:r>
              <a:rPr b="0" lang="en-GB" sz="2200" spc="-1" strike="noStrike" u="sng">
                <a:solidFill>
                  <a:srgbClr val="000000"/>
                </a:solidFill>
                <a:uFillTx/>
                <a:latin typeface="Verdana"/>
              </a:rPr>
              <a:t>ratio in a molecule</a:t>
            </a: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ovit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;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hotosinthesis;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free radicals are formed</a:t>
            </a:r>
            <a:r>
              <a:rPr b="0" lang="sr-CS" sz="1800" spc="-1" strike="noStrike">
                <a:solidFill>
                  <a:srgbClr val="000000"/>
                </a:solidFill>
                <a:latin typeface="Verdana"/>
              </a:rPr>
              <a:t>;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enzymes are activated</a:t>
            </a:r>
            <a:r>
              <a:rPr b="0" lang="sr-CS" sz="1800" spc="-1" strike="noStrike">
                <a:solidFill>
                  <a:srgbClr val="000000"/>
                </a:solidFill>
                <a:latin typeface="Verdana"/>
              </a:rPr>
              <a:t>;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lease of biologically active material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histamine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cetylcholine etc.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90000"/>
              </a:lnSpc>
              <a:spcBef>
                <a:spcPts val="4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hotoelectric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ffect</a:t>
            </a:r>
            <a:r>
              <a:rPr b="0" lang="de-DE" sz="22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hange of the atomic balance by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emission of the electrons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transition of colloids from the state of salt </a:t>
            </a:r>
            <a:r>
              <a:rPr b="0" lang="de-DE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 gel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;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enaturation of proteins and inactivation of enzymes</a:t>
            </a:r>
            <a:r>
              <a:rPr b="0" lang="sr-CS" sz="1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90000"/>
              </a:lnSpc>
              <a:spcBef>
                <a:spcPts val="4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luorescence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ffect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pability of some substances to reemit the absorbed Е of UV radiation of one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l-GR" sz="2000" spc="-1" strike="noStrike">
                <a:solidFill>
                  <a:srgbClr val="000000"/>
                </a:solidFill>
                <a:latin typeface="Verdana"/>
              </a:rPr>
              <a:t>λ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1" i="1" lang="de-DE" sz="2000" spc="-1" strike="noStrike">
                <a:solidFill>
                  <a:srgbClr val="000000"/>
                </a:solidFill>
                <a:latin typeface="Verdana"/>
              </a:rPr>
              <a:t>365,5 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Wood’s ligh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 all directions, but with higher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l-GR" sz="2000" spc="-1" strike="noStrike">
                <a:solidFill>
                  <a:srgbClr val="000000"/>
                </a:solidFill>
                <a:latin typeface="Verdana"/>
              </a:rPr>
              <a:t>λ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;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sed for diagnostic purpose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 u="sng">
                <a:solidFill>
                  <a:srgbClr val="f0000c"/>
                </a:solidFill>
                <a:uFillTx/>
                <a:latin typeface="Verdana"/>
              </a:rPr>
              <a:t>LOCAL EFFECTS OF UV RADIATI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6" name="Text Box 2"/>
          <p:cNvSpPr/>
          <p:nvPr/>
        </p:nvSpPr>
        <p:spPr>
          <a:xfrm>
            <a:off x="457200" y="1844640"/>
            <a:ext cx="814392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63440" indent="-163440">
              <a:lnSpc>
                <a:spcPct val="150000"/>
              </a:lnSpc>
              <a:spcBef>
                <a:spcPts val="29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163440"/>
                <a:tab algn="l" pos="620640"/>
                <a:tab algn="l" pos="1077840"/>
                <a:tab algn="l" pos="1535040"/>
                <a:tab algn="l" pos="1992240"/>
                <a:tab algn="l" pos="2449440"/>
                <a:tab algn="l" pos="2906640"/>
                <a:tab algn="l" pos="3363840"/>
                <a:tab algn="l" pos="3821040"/>
                <a:tab algn="l" pos="4278240"/>
                <a:tab algn="l" pos="4735440"/>
                <a:tab algn="l" pos="5192640"/>
                <a:tab algn="l" pos="5649840"/>
                <a:tab algn="l" pos="6107040"/>
                <a:tab algn="l" pos="6564240"/>
                <a:tab algn="l" pos="7021440"/>
                <a:tab algn="l" pos="7478640"/>
                <a:tab algn="l" pos="7935840"/>
                <a:tab algn="l" pos="8393040"/>
                <a:tab algn="l" pos="8850240"/>
                <a:tab algn="l" pos="9307440"/>
                <a:tab algn="l" pos="9601200"/>
                <a:tab algn="l" pos="10058400"/>
                <a:tab algn="l" pos="105156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rythema– chemical; latent period 4-6h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163440" indent="-163440">
              <a:lnSpc>
                <a:spcPct val="150000"/>
              </a:lnSpc>
              <a:spcBef>
                <a:spcPts val="29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163440"/>
                <a:tab algn="l" pos="620640"/>
                <a:tab algn="l" pos="1077840"/>
                <a:tab algn="l" pos="1535040"/>
                <a:tab algn="l" pos="1992240"/>
                <a:tab algn="l" pos="2449440"/>
                <a:tab algn="l" pos="2906640"/>
                <a:tab algn="l" pos="3363840"/>
                <a:tab algn="l" pos="3821040"/>
                <a:tab algn="l" pos="4278240"/>
                <a:tab algn="l" pos="4735440"/>
                <a:tab algn="l" pos="5192640"/>
                <a:tab algn="l" pos="5649840"/>
                <a:tab algn="l" pos="6107040"/>
                <a:tab algn="l" pos="6564240"/>
                <a:tab algn="l" pos="7021440"/>
                <a:tab algn="l" pos="7478640"/>
                <a:tab algn="l" pos="7935840"/>
                <a:tab algn="l" pos="8393040"/>
                <a:tab algn="l" pos="8850240"/>
                <a:tab algn="l" pos="93074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igmentat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163440" indent="-163440">
              <a:lnSpc>
                <a:spcPct val="100000"/>
              </a:lnSpc>
              <a:spcBef>
                <a:spcPts val="29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163440"/>
                <a:tab algn="l" pos="620640"/>
                <a:tab algn="l" pos="1077840"/>
                <a:tab algn="l" pos="1535040"/>
                <a:tab algn="l" pos="1992240"/>
                <a:tab algn="l" pos="2449440"/>
                <a:tab algn="l" pos="2906640"/>
                <a:tab algn="l" pos="3363840"/>
                <a:tab algn="l" pos="3821040"/>
                <a:tab algn="l" pos="4278240"/>
                <a:tab algn="l" pos="4735440"/>
                <a:tab algn="l" pos="5192640"/>
                <a:tab algn="l" pos="5649840"/>
                <a:tab algn="l" pos="6107040"/>
                <a:tab algn="l" pos="6564240"/>
                <a:tab algn="l" pos="7021440"/>
                <a:tab algn="l" pos="7478640"/>
                <a:tab algn="l" pos="7935840"/>
                <a:tab algn="l" pos="8393040"/>
                <a:tab algn="l" pos="8850240"/>
                <a:tab algn="l" pos="93074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imulation of cell regeneration and epythelization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due to increase in the number of the cell divisions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163440" indent="-163440">
              <a:lnSpc>
                <a:spcPct val="150000"/>
              </a:lnSpc>
              <a:spcBef>
                <a:spcPts val="29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163440"/>
                <a:tab algn="l" pos="620640"/>
                <a:tab algn="l" pos="1077840"/>
                <a:tab algn="l" pos="1535040"/>
                <a:tab algn="l" pos="1992240"/>
                <a:tab algn="l" pos="2449440"/>
                <a:tab algn="l" pos="2906640"/>
                <a:tab algn="l" pos="3363840"/>
                <a:tab algn="l" pos="3821040"/>
                <a:tab algn="l" pos="4278240"/>
                <a:tab algn="l" pos="4735440"/>
                <a:tab algn="l" pos="5192640"/>
                <a:tab algn="l" pos="5649840"/>
                <a:tab algn="l" pos="6107040"/>
                <a:tab algn="l" pos="6564240"/>
                <a:tab algn="l" pos="7021440"/>
                <a:tab algn="l" pos="7478640"/>
                <a:tab algn="l" pos="7935840"/>
                <a:tab algn="l" pos="8393040"/>
                <a:tab algn="l" pos="8850240"/>
                <a:tab algn="l" pos="93074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actericide and bacteriostatic effec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DE" sz="2800" spc="-1" strike="noStrike" u="sng">
                <a:solidFill>
                  <a:srgbClr val="f0000c"/>
                </a:solidFill>
                <a:uFillTx/>
                <a:latin typeface="Verdana"/>
              </a:rPr>
              <a:t>REFLEXIVE</a:t>
            </a:r>
            <a:r>
              <a:rPr b="1" lang="de-DE" sz="2800" spc="-1" strike="noStrike">
                <a:solidFill>
                  <a:srgbClr val="f0000c"/>
                </a:solidFill>
                <a:latin typeface="Verdana"/>
              </a:rPr>
              <a:t> REACTIONS OF UV RADIATI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8" name="Text Box 2"/>
          <p:cNvSpPr/>
          <p:nvPr/>
        </p:nvSpPr>
        <p:spPr>
          <a:xfrm>
            <a:off x="457200" y="1484280"/>
            <a:ext cx="814392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They occur via </a:t>
            </a: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cutivisceral reflex 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paths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</a:t>
            </a:r>
            <a:r>
              <a:rPr b="0" lang="de-DE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2200" spc="-1" strike="noStrike">
                <a:solidFill>
                  <a:srgbClr val="000000"/>
                </a:solidFill>
                <a:latin typeface="Verdana"/>
              </a:rPr>
              <a:t>secretion of gastric juice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</a:t>
            </a:r>
            <a:r>
              <a:rPr b="0" lang="de-DE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2200" spc="-1" strike="noStrike">
                <a:solidFill>
                  <a:srgbClr val="000000"/>
                </a:solidFill>
                <a:latin typeface="Verdana"/>
              </a:rPr>
              <a:t>intestinal peristalsis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</a:t>
            </a:r>
            <a:r>
              <a:rPr b="0" lang="de-DE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2200" spc="-1" strike="noStrike">
                <a:solidFill>
                  <a:srgbClr val="000000"/>
                </a:solidFill>
                <a:latin typeface="Verdana"/>
              </a:rPr>
              <a:t>elimination of water and electrolites through the kidney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</a:t>
            </a:r>
            <a:r>
              <a:rPr b="0" lang="de-DE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2200" spc="-1" strike="noStrike">
                <a:solidFill>
                  <a:srgbClr val="000000"/>
                </a:solidFill>
                <a:latin typeface="Verdana"/>
              </a:rPr>
              <a:t>breathing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</a:t>
            </a:r>
            <a:r>
              <a:rPr b="0" lang="de-DE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2200" spc="-1" strike="noStrike">
                <a:solidFill>
                  <a:srgbClr val="000000"/>
                </a:solidFill>
                <a:latin typeface="Verdana"/>
              </a:rPr>
              <a:t>blood pressure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Verdana"/>
              </a:rPr>
              <a:t>analgesia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hotophobia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DE" sz="2800" spc="-1" strike="noStrike" u="sng">
                <a:solidFill>
                  <a:srgbClr val="f0000c"/>
                </a:solidFill>
                <a:uFillTx/>
                <a:latin typeface="Verdana"/>
              </a:rPr>
              <a:t>GENERAL</a:t>
            </a:r>
            <a:r>
              <a:rPr b="1" lang="de-DE" sz="2800" spc="-1" strike="noStrike">
                <a:solidFill>
                  <a:srgbClr val="f0000c"/>
                </a:solidFill>
                <a:latin typeface="Verdana"/>
              </a:rPr>
              <a:t> EFFECTS OF UV RADIATI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" name="Text Box 2"/>
          <p:cNvSpPr/>
          <p:nvPr/>
        </p:nvSpPr>
        <p:spPr>
          <a:xfrm>
            <a:off x="250920" y="1268280"/>
            <a:ext cx="836136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516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Consequences of </a:t>
            </a:r>
            <a:r>
              <a:rPr b="1" lang="sr-CS" sz="2400" spc="-1" strike="noStrike">
                <a:solidFill>
                  <a:srgbClr val="000000"/>
                </a:solidFill>
                <a:latin typeface="Verdana"/>
              </a:rPr>
              <a:t>photochemical effect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5160">
              <a:lnSpc>
                <a:spcPct val="100000"/>
              </a:lnSpc>
              <a:spcBef>
                <a:spcPts val="22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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etabolism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5160">
              <a:lnSpc>
                <a:spcPct val="100000"/>
              </a:lnSpc>
              <a:spcBef>
                <a:spcPts val="22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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umber of Er and Hgb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5160">
              <a:lnSpc>
                <a:spcPct val="100000"/>
              </a:lnSpc>
              <a:spcBef>
                <a:spcPts val="22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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umber of Le and immunity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5160">
              <a:lnSpc>
                <a:spcPct val="100000"/>
              </a:lnSpc>
              <a:spcBef>
                <a:spcPts val="22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nversion of provitamin D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vitamin D3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5160">
              <a:lnSpc>
                <a:spcPct val="100000"/>
              </a:lnSpc>
              <a:spcBef>
                <a:spcPts val="22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ormalization of Ca and P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5160">
              <a:lnSpc>
                <a:spcPct val="100000"/>
              </a:lnSpc>
              <a:spcBef>
                <a:spcPts val="22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ormalization of glycemia, cholesterol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5160">
              <a:lnSpc>
                <a:spcPct val="100000"/>
              </a:lnSpc>
              <a:spcBef>
                <a:spcPts val="22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imulation of the function of the thyroid</a:t>
            </a: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, adrenal and sexual gland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DE" sz="2800" spc="-1" strike="noStrike">
                <a:solidFill>
                  <a:srgbClr val="f0000c"/>
                </a:solidFill>
                <a:latin typeface="Verdana"/>
              </a:rPr>
              <a:t>THERAPEUTIC EFFECT OF UV RADIATI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Text Box 2"/>
          <p:cNvSpPr/>
          <p:nvPr/>
        </p:nvSpPr>
        <p:spPr>
          <a:xfrm>
            <a:off x="457200" y="1484280"/>
            <a:ext cx="814392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87400" indent="-336600">
              <a:lnSpc>
                <a:spcPct val="1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887400"/>
                <a:tab algn="l" pos="1344600"/>
                <a:tab algn="l" pos="1801800"/>
                <a:tab algn="l" pos="2259000"/>
                <a:tab algn="l" pos="2716200"/>
                <a:tab algn="l" pos="3173400"/>
                <a:tab algn="l" pos="3630600"/>
                <a:tab algn="l" pos="4087800"/>
                <a:tab algn="l" pos="4545000"/>
                <a:tab algn="l" pos="5002200"/>
                <a:tab algn="l" pos="5459400"/>
                <a:tab algn="l" pos="5916600"/>
                <a:tab algn="l" pos="6373800"/>
                <a:tab algn="l" pos="6831000"/>
                <a:tab algn="l" pos="7288200"/>
                <a:tab algn="l" pos="7745400"/>
                <a:tab algn="l" pos="8202600"/>
                <a:tab algn="l" pos="8659800"/>
                <a:tab algn="l" pos="9117000"/>
                <a:tab algn="l" pos="9574200"/>
                <a:tab algn="l" pos="100314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Analgesic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887400" indent="-336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887400"/>
                <a:tab algn="l" pos="1344600"/>
                <a:tab algn="l" pos="1801800"/>
                <a:tab algn="l" pos="2259000"/>
                <a:tab algn="l" pos="2716200"/>
                <a:tab algn="l" pos="3173400"/>
                <a:tab algn="l" pos="3630600"/>
                <a:tab algn="l" pos="4087800"/>
                <a:tab algn="l" pos="4545000"/>
                <a:tab algn="l" pos="5002200"/>
                <a:tab algn="l" pos="5459400"/>
                <a:tab algn="l" pos="5916600"/>
                <a:tab algn="l" pos="6373800"/>
                <a:tab algn="l" pos="6831000"/>
                <a:tab algn="l" pos="7288200"/>
                <a:tab algn="l" pos="7745400"/>
                <a:tab algn="l" pos="8202600"/>
                <a:tab algn="l" pos="8659800"/>
                <a:tab algn="l" pos="9117000"/>
                <a:tab algn="l" pos="9574200"/>
                <a:tab algn="l" pos="100314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887400" indent="-336600">
              <a:lnSpc>
                <a:spcPct val="1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887400"/>
                <a:tab algn="l" pos="1344600"/>
                <a:tab algn="l" pos="1801800"/>
                <a:tab algn="l" pos="2259000"/>
                <a:tab algn="l" pos="2716200"/>
                <a:tab algn="l" pos="3173400"/>
                <a:tab algn="l" pos="3630600"/>
                <a:tab algn="l" pos="4087800"/>
                <a:tab algn="l" pos="4545000"/>
                <a:tab algn="l" pos="5002200"/>
                <a:tab algn="l" pos="5459400"/>
                <a:tab algn="l" pos="5916600"/>
                <a:tab algn="l" pos="6373800"/>
                <a:tab algn="l" pos="6831000"/>
                <a:tab algn="l" pos="7288200"/>
                <a:tab algn="l" pos="7745400"/>
                <a:tab algn="l" pos="8202600"/>
                <a:tab algn="l" pos="8659800"/>
                <a:tab algn="l" pos="9117000"/>
                <a:tab algn="l" pos="9574200"/>
                <a:tab algn="l" pos="100314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Trophic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887400" indent="-336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887400"/>
                <a:tab algn="l" pos="1344600"/>
                <a:tab algn="l" pos="1801800"/>
                <a:tab algn="l" pos="2259000"/>
                <a:tab algn="l" pos="2716200"/>
                <a:tab algn="l" pos="3173400"/>
                <a:tab algn="l" pos="3630600"/>
                <a:tab algn="l" pos="4087800"/>
                <a:tab algn="l" pos="4545000"/>
                <a:tab algn="l" pos="5002200"/>
                <a:tab algn="l" pos="5459400"/>
                <a:tab algn="l" pos="5916600"/>
                <a:tab algn="l" pos="6373800"/>
                <a:tab algn="l" pos="6831000"/>
                <a:tab algn="l" pos="7288200"/>
                <a:tab algn="l" pos="7745400"/>
                <a:tab algn="l" pos="8202600"/>
                <a:tab algn="l" pos="8659800"/>
                <a:tab algn="l" pos="9117000"/>
                <a:tab algn="l" pos="9574200"/>
                <a:tab algn="l" pos="100314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887400" indent="-336600">
              <a:lnSpc>
                <a:spcPct val="1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887400"/>
                <a:tab algn="l" pos="1344600"/>
                <a:tab algn="l" pos="1801800"/>
                <a:tab algn="l" pos="2259000"/>
                <a:tab algn="l" pos="2716200"/>
                <a:tab algn="l" pos="3173400"/>
                <a:tab algn="l" pos="3630600"/>
                <a:tab algn="l" pos="4087800"/>
                <a:tab algn="l" pos="4545000"/>
                <a:tab algn="l" pos="5002200"/>
                <a:tab algn="l" pos="5459400"/>
                <a:tab algn="l" pos="5916600"/>
                <a:tab algn="l" pos="6373800"/>
                <a:tab algn="l" pos="6831000"/>
                <a:tab algn="l" pos="7288200"/>
                <a:tab algn="l" pos="7745400"/>
                <a:tab algn="l" pos="8202600"/>
                <a:tab algn="l" pos="8659800"/>
                <a:tab algn="l" pos="9117000"/>
                <a:tab algn="l" pos="9574200"/>
                <a:tab algn="l" pos="100314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Improvement of regeneration (epithelization)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DE" sz="2800" spc="-1" strike="noStrike">
                <a:solidFill>
                  <a:srgbClr val="f0000c"/>
                </a:solidFill>
                <a:latin typeface="Verdana"/>
              </a:rPr>
              <a:t>INDIVIDUAL SENSITIVITY TO UV RADIATI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4" name="Text Box 2"/>
          <p:cNvSpPr/>
          <p:nvPr/>
        </p:nvSpPr>
        <p:spPr>
          <a:xfrm>
            <a:off x="457200" y="1484280"/>
            <a:ext cx="814392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00280" indent="-335160">
              <a:lnSpc>
                <a:spcPct val="150000"/>
              </a:lnSpc>
              <a:spcBef>
                <a:spcPts val="55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944280"/>
                <a:tab algn="l" pos="10058400"/>
                <a:tab algn="l" pos="105156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Sex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800280" indent="-335160">
              <a:lnSpc>
                <a:spcPct val="150000"/>
              </a:lnSpc>
              <a:spcBef>
                <a:spcPts val="55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944280"/>
                <a:tab algn="l" pos="10058400"/>
                <a:tab algn="l" pos="105156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Age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800280" indent="-335160">
              <a:lnSpc>
                <a:spcPct val="150000"/>
              </a:lnSpc>
              <a:spcBef>
                <a:spcPts val="55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944280"/>
                <a:tab algn="l" pos="10058400"/>
                <a:tab algn="l" pos="105156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Verdana"/>
              </a:rPr>
              <a:t>Pigmentation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800280" indent="-335160">
              <a:lnSpc>
                <a:spcPct val="150000"/>
              </a:lnSpc>
              <a:spcBef>
                <a:spcPts val="55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944280"/>
                <a:tab algn="l" pos="10058400"/>
                <a:tab algn="l" pos="105156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Race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800280" indent="-335160">
              <a:lnSpc>
                <a:spcPct val="150000"/>
              </a:lnSpc>
              <a:spcBef>
                <a:spcPts val="55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944280"/>
                <a:tab algn="l" pos="10058400"/>
                <a:tab algn="l" pos="105156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Body region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800280" indent="-335160">
              <a:lnSpc>
                <a:spcPct val="150000"/>
              </a:lnSpc>
              <a:spcBef>
                <a:spcPts val="55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944280"/>
                <a:tab algn="l" pos="10058400"/>
                <a:tab algn="l" pos="105156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Physiological conditions (menses, pregnancy)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800280" indent="-335160">
              <a:lnSpc>
                <a:spcPct val="150000"/>
              </a:lnSpc>
              <a:spcBef>
                <a:spcPts val="55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944280"/>
                <a:tab algn="l" pos="10058400"/>
                <a:tab algn="l" pos="105156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Diseases (DM, albinism)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800280" indent="-335160">
              <a:lnSpc>
                <a:spcPct val="150000"/>
              </a:lnSpc>
              <a:spcBef>
                <a:spcPts val="55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944280"/>
                <a:tab algn="l" pos="10058400"/>
                <a:tab algn="l" pos="105156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Use of photosensitizers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800280" indent="-33516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94428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DE" sz="2800" spc="-1" strike="noStrike">
                <a:solidFill>
                  <a:srgbClr val="f0000c"/>
                </a:solidFill>
                <a:latin typeface="Verdana"/>
              </a:rPr>
              <a:t>PHOTOSENSITIZER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6" name="Text Box 2"/>
          <p:cNvSpPr/>
          <p:nvPr/>
        </p:nvSpPr>
        <p:spPr>
          <a:xfrm>
            <a:off x="457200" y="1484280"/>
            <a:ext cx="814392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34800" indent="-334800">
              <a:lnSpc>
                <a:spcPct val="100000"/>
              </a:lnSpc>
              <a:spcBef>
                <a:spcPts val="55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Endogenous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: bile color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, porphirin, thyroxin, gonadotropic hormones, adrenalin</a:t>
            </a:r>
            <a:r>
              <a:rPr b="0" lang="de-DE" sz="2200" spc="-1" strike="noStrike">
                <a:solidFill>
                  <a:srgbClr val="000000"/>
                </a:solidFill>
                <a:latin typeface="Verdana"/>
              </a:rPr>
              <a:t>, insulin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55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Exogenous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: heavy metal salt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, penicillin, </a:t>
            </a:r>
            <a:r>
              <a:rPr b="0" lang="de-DE" sz="2200" spc="-1" strike="noStrike">
                <a:solidFill>
                  <a:srgbClr val="000000"/>
                </a:solidFill>
                <a:latin typeface="Verdana"/>
              </a:rPr>
              <a:t>tetracycline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, sulphonamides, rivanol, eosin, gold salts etc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DE" sz="2800" spc="-1" strike="noStrike">
                <a:solidFill>
                  <a:srgbClr val="f0000c"/>
                </a:solidFill>
                <a:latin typeface="Verdana"/>
              </a:rPr>
              <a:t>BIODOSI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8" name="Text Box 2"/>
          <p:cNvSpPr/>
          <p:nvPr/>
        </p:nvSpPr>
        <p:spPr>
          <a:xfrm>
            <a:off x="360360" y="1432080"/>
            <a:ext cx="8143920" cy="49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4800" indent="-334800">
              <a:lnSpc>
                <a:spcPct val="1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easure of individual and regional sensitivit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BIODOSIS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 is the </a:t>
            </a:r>
            <a:r>
              <a:rPr b="1" lang="de-DE" sz="2400" spc="-1" strike="noStrike">
                <a:solidFill>
                  <a:srgbClr val="ff0000"/>
                </a:solidFill>
                <a:latin typeface="Verdana"/>
              </a:rPr>
              <a:t>time interval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de-DE" sz="2400" spc="-1" strike="noStrike">
                <a:solidFill>
                  <a:srgbClr val="ff0000"/>
                </a:solidFill>
                <a:latin typeface="Verdana"/>
              </a:rPr>
              <a:t>[min] 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of radiation during which UV rays from a known source, from a certain distance, cause just perceptible erythema on the skin 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(minimal erythemal dose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Biodosimeter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35120" indent="-277920">
              <a:lnSpc>
                <a:spcPct val="1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  <a:ea typeface="Microsoft YaHei"/>
              </a:rPr>
              <a:t>with 5 field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35120" indent="-277920">
              <a:lnSpc>
                <a:spcPct val="1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  <a:ea typeface="Microsoft YaHei"/>
              </a:rPr>
              <a:t>with 3 fields, by Prof. Rotovic and Prof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35120" indent="-277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  <a:ea typeface="Microsoft YaHei"/>
              </a:rPr>
              <a:t>Milicevic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29" name="Group 3"/>
          <p:cNvGrpSpPr/>
          <p:nvPr/>
        </p:nvGrpSpPr>
        <p:grpSpPr>
          <a:xfrm>
            <a:off x="7104240" y="4098960"/>
            <a:ext cx="1000080" cy="1662120"/>
            <a:chOff x="7104240" y="4098960"/>
            <a:chExt cx="1000080" cy="1662120"/>
          </a:xfrm>
        </p:grpSpPr>
        <p:sp>
          <p:nvSpPr>
            <p:cNvPr id="330" name="Rectangle 4"/>
            <p:cNvSpPr/>
            <p:nvPr/>
          </p:nvSpPr>
          <p:spPr>
            <a:xfrm>
              <a:off x="7180200" y="4098960"/>
              <a:ext cx="924120" cy="1662120"/>
            </a:xfrm>
            <a:prstGeom prst="rect">
              <a:avLst/>
            </a:prstGeom>
            <a:solidFill>
              <a:srgbClr val="ffffff"/>
            </a:solidFill>
            <a:ln cap="sq"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spcAft>
                  <a:spcPts val="45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31" name="Rectangle 5"/>
            <p:cNvSpPr/>
            <p:nvPr/>
          </p:nvSpPr>
          <p:spPr>
            <a:xfrm>
              <a:off x="7304040" y="4241880"/>
              <a:ext cx="654120" cy="306360"/>
            </a:xfrm>
            <a:prstGeom prst="rect">
              <a:avLst/>
            </a:prstGeom>
            <a:solidFill>
              <a:srgbClr val="dddddd"/>
            </a:solidFill>
            <a:ln cap="sq"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spcAft>
                  <a:spcPts val="45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32" name="Rectangle 6"/>
            <p:cNvSpPr/>
            <p:nvPr/>
          </p:nvSpPr>
          <p:spPr>
            <a:xfrm>
              <a:off x="7304040" y="4765680"/>
              <a:ext cx="654120" cy="306360"/>
            </a:xfrm>
            <a:prstGeom prst="rect">
              <a:avLst/>
            </a:prstGeom>
            <a:solidFill>
              <a:srgbClr val="dddddd"/>
            </a:solidFill>
            <a:ln cap="sq"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spcAft>
                  <a:spcPts val="45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33" name="Rectangle 7"/>
            <p:cNvSpPr/>
            <p:nvPr/>
          </p:nvSpPr>
          <p:spPr>
            <a:xfrm>
              <a:off x="7304040" y="5251320"/>
              <a:ext cx="654120" cy="306360"/>
            </a:xfrm>
            <a:prstGeom prst="rect">
              <a:avLst/>
            </a:prstGeom>
            <a:solidFill>
              <a:srgbClr val="dddddd"/>
            </a:solidFill>
            <a:ln cap="sq"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spcAft>
                  <a:spcPts val="45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34" name="Text Box 8"/>
            <p:cNvSpPr/>
            <p:nvPr/>
          </p:nvSpPr>
          <p:spPr>
            <a:xfrm>
              <a:off x="7104240" y="4270320"/>
              <a:ext cx="591840" cy="12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2160" indent="-84240"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2160"/>
                  <a:tab algn="l" pos="549360"/>
                  <a:tab algn="l" pos="1006560"/>
                  <a:tab algn="l" pos="1463760"/>
                  <a:tab algn="l" pos="1920960"/>
                  <a:tab algn="l" pos="2378160"/>
                  <a:tab algn="l" pos="2835360"/>
                  <a:tab algn="l" pos="3292560"/>
                  <a:tab algn="l" pos="3749760"/>
                  <a:tab algn="l" pos="4206960"/>
                  <a:tab algn="l" pos="4664160"/>
                  <a:tab algn="l" pos="5121360"/>
                  <a:tab algn="l" pos="5578560"/>
                  <a:tab algn="l" pos="6035760"/>
                  <a:tab algn="l" pos="6492960"/>
                  <a:tab algn="l" pos="6950160"/>
                  <a:tab algn="l" pos="7407360"/>
                  <a:tab algn="l" pos="7864560"/>
                  <a:tab algn="l" pos="8321760"/>
                  <a:tab algn="l" pos="8778960"/>
                  <a:tab algn="l" pos="9236160"/>
                  <a:tab algn="l" pos="9601200"/>
                  <a:tab algn="l" pos="10058400"/>
                  <a:tab algn="l" pos="10515600"/>
                </a:tabLst>
              </a:pPr>
              <a:r>
                <a:rPr b="1" lang="sr-Latn-CS" sz="1200" spc="-1" strike="noStrike">
                  <a:solidFill>
                    <a:srgbClr val="4d4d4d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  <a:p>
              <a:pPr marL="92160" indent="-84240"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2160"/>
                  <a:tab algn="l" pos="549360"/>
                  <a:tab algn="l" pos="1006560"/>
                  <a:tab algn="l" pos="1463760"/>
                  <a:tab algn="l" pos="1920960"/>
                  <a:tab algn="l" pos="2378160"/>
                  <a:tab algn="l" pos="2835360"/>
                  <a:tab algn="l" pos="3292560"/>
                  <a:tab algn="l" pos="3749760"/>
                  <a:tab algn="l" pos="4206960"/>
                  <a:tab algn="l" pos="4664160"/>
                  <a:tab algn="l" pos="5121360"/>
                  <a:tab algn="l" pos="5578560"/>
                  <a:tab algn="l" pos="6035760"/>
                  <a:tab algn="l" pos="6492960"/>
                  <a:tab algn="l" pos="6950160"/>
                  <a:tab algn="l" pos="7407360"/>
                  <a:tab algn="l" pos="7864560"/>
                  <a:tab algn="l" pos="8321760"/>
                  <a:tab algn="l" pos="8778960"/>
                  <a:tab algn="l" pos="923616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  <a:p>
              <a:pPr marL="92160" indent="-84240"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2160"/>
                  <a:tab algn="l" pos="549360"/>
                  <a:tab algn="l" pos="1006560"/>
                  <a:tab algn="l" pos="1463760"/>
                  <a:tab algn="l" pos="1920960"/>
                  <a:tab algn="l" pos="2378160"/>
                  <a:tab algn="l" pos="2835360"/>
                  <a:tab algn="l" pos="3292560"/>
                  <a:tab algn="l" pos="3749760"/>
                  <a:tab algn="l" pos="4206960"/>
                  <a:tab algn="l" pos="4664160"/>
                  <a:tab algn="l" pos="5121360"/>
                  <a:tab algn="l" pos="5578560"/>
                  <a:tab algn="l" pos="6035760"/>
                  <a:tab algn="l" pos="6492960"/>
                  <a:tab algn="l" pos="6950160"/>
                  <a:tab algn="l" pos="7407360"/>
                  <a:tab algn="l" pos="7864560"/>
                  <a:tab algn="l" pos="8321760"/>
                  <a:tab algn="l" pos="8778960"/>
                  <a:tab algn="l" pos="9236160"/>
                  <a:tab algn="l" pos="9601200"/>
                  <a:tab algn="l" pos="10058400"/>
                  <a:tab algn="l" pos="10515600"/>
                </a:tabLst>
              </a:pPr>
              <a:r>
                <a:rPr b="1" lang="sr-Latn-CS" sz="1200" spc="-1" strike="noStrike">
                  <a:solidFill>
                    <a:srgbClr val="4d4d4d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  <a:p>
              <a:pPr marL="92160" indent="-84240"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2160"/>
                  <a:tab algn="l" pos="549360"/>
                  <a:tab algn="l" pos="1006560"/>
                  <a:tab algn="l" pos="1463760"/>
                  <a:tab algn="l" pos="1920960"/>
                  <a:tab algn="l" pos="2378160"/>
                  <a:tab algn="l" pos="2835360"/>
                  <a:tab algn="l" pos="3292560"/>
                  <a:tab algn="l" pos="3749760"/>
                  <a:tab algn="l" pos="4206960"/>
                  <a:tab algn="l" pos="4664160"/>
                  <a:tab algn="l" pos="5121360"/>
                  <a:tab algn="l" pos="5578560"/>
                  <a:tab algn="l" pos="6035760"/>
                  <a:tab algn="l" pos="6492960"/>
                  <a:tab algn="l" pos="6950160"/>
                  <a:tab algn="l" pos="7407360"/>
                  <a:tab algn="l" pos="7864560"/>
                  <a:tab algn="l" pos="8321760"/>
                  <a:tab algn="l" pos="8778960"/>
                  <a:tab algn="l" pos="923616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  <a:p>
              <a:pPr marL="92160" indent="-84240"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2160"/>
                  <a:tab algn="l" pos="549360"/>
                  <a:tab algn="l" pos="1006560"/>
                  <a:tab algn="l" pos="1463760"/>
                  <a:tab algn="l" pos="1920960"/>
                  <a:tab algn="l" pos="2378160"/>
                  <a:tab algn="l" pos="2835360"/>
                  <a:tab algn="l" pos="3292560"/>
                  <a:tab algn="l" pos="3749760"/>
                  <a:tab algn="l" pos="4206960"/>
                  <a:tab algn="l" pos="4664160"/>
                  <a:tab algn="l" pos="5121360"/>
                  <a:tab algn="l" pos="5578560"/>
                  <a:tab algn="l" pos="6035760"/>
                  <a:tab algn="l" pos="6492960"/>
                  <a:tab algn="l" pos="6950160"/>
                  <a:tab algn="l" pos="7407360"/>
                  <a:tab algn="l" pos="7864560"/>
                  <a:tab algn="l" pos="8321760"/>
                  <a:tab algn="l" pos="8778960"/>
                  <a:tab algn="l" pos="9236160"/>
                  <a:tab algn="l" pos="9601200"/>
                  <a:tab algn="l" pos="10058400"/>
                  <a:tab algn="l" pos="10515600"/>
                </a:tabLst>
              </a:pPr>
              <a:r>
                <a:rPr b="1" lang="sr-Latn-CS" sz="1200" spc="-1" strike="noStrike">
                  <a:solidFill>
                    <a:srgbClr val="4d4d4d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0000c"/>
                </a:solidFill>
                <a:latin typeface="Verdana"/>
              </a:rPr>
              <a:t>DETERMINIATION OF BIODOSI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36" name="Picture 2" descr=""/>
          <p:cNvPicPr/>
          <p:nvPr/>
        </p:nvPicPr>
        <p:blipFill>
          <a:blip r:embed="rId1"/>
          <a:stretch/>
        </p:blipFill>
        <p:spPr>
          <a:xfrm>
            <a:off x="2050920" y="2060640"/>
            <a:ext cx="4492800" cy="3882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DE" sz="2800" spc="-1" strike="noStrike">
                <a:solidFill>
                  <a:srgbClr val="f0000c"/>
                </a:solidFill>
                <a:latin typeface="Verdana"/>
              </a:rPr>
              <a:t>INTERPRETATION OF BIODOSI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38" name="Group 2"/>
          <p:cNvGrpSpPr/>
          <p:nvPr/>
        </p:nvGrpSpPr>
        <p:grpSpPr>
          <a:xfrm>
            <a:off x="539640" y="1557360"/>
            <a:ext cx="7985160" cy="5032440"/>
            <a:chOff x="539640" y="1557360"/>
            <a:chExt cx="7985160" cy="5032440"/>
          </a:xfrm>
        </p:grpSpPr>
        <p:sp>
          <p:nvSpPr>
            <p:cNvPr id="339" name="Rectangle 3"/>
            <p:cNvSpPr/>
            <p:nvPr/>
          </p:nvSpPr>
          <p:spPr>
            <a:xfrm>
              <a:off x="539640" y="1557360"/>
              <a:ext cx="2301120" cy="1694880"/>
            </a:xfrm>
            <a:prstGeom prst="rect">
              <a:avLst/>
            </a:prstGeom>
            <a:solidFill>
              <a:srgbClr val="f000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0" bIns="0" anchor="ctr">
              <a:no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de-DE" sz="2000" spc="-1" strike="noStrike">
                  <a:solidFill>
                    <a:srgbClr val="ffffff"/>
                  </a:solidFill>
                  <a:latin typeface="Verdana"/>
                </a:rPr>
                <a:t>Degree of erythema</a:t>
              </a: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40" name="Rectangle 4"/>
            <p:cNvSpPr/>
            <p:nvPr/>
          </p:nvSpPr>
          <p:spPr>
            <a:xfrm>
              <a:off x="2847240" y="1557360"/>
              <a:ext cx="3461400" cy="1141200"/>
            </a:xfrm>
            <a:prstGeom prst="rect">
              <a:avLst/>
            </a:prstGeom>
            <a:solidFill>
              <a:srgbClr val="f000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0" bIns="0" anchor="ctr">
              <a:no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de-DE" sz="2000" spc="-1" strike="noStrike">
                  <a:solidFill>
                    <a:srgbClr val="ffffff"/>
                  </a:solidFill>
                  <a:latin typeface="Verdana"/>
                </a:rPr>
                <a:t>Exposure time in min</a:t>
              </a: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41" name="Rectangle 5"/>
            <p:cNvSpPr/>
            <p:nvPr/>
          </p:nvSpPr>
          <p:spPr>
            <a:xfrm>
              <a:off x="6316920" y="1557360"/>
              <a:ext cx="2197800" cy="1694880"/>
            </a:xfrm>
            <a:prstGeom prst="rect">
              <a:avLst/>
            </a:prstGeom>
            <a:solidFill>
              <a:srgbClr val="f000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0" bIns="0" anchor="ctr">
              <a:no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de-DE" sz="2000" spc="-1" strike="noStrike">
                  <a:solidFill>
                    <a:srgbClr val="ffffff"/>
                  </a:solidFill>
                  <a:latin typeface="Verdana"/>
                </a:rPr>
                <a:t>Biodosis in </a:t>
              </a:r>
              <a:r>
                <a:rPr b="1" lang="en-US" sz="2000" spc="-1" strike="noStrike">
                  <a:solidFill>
                    <a:srgbClr val="ffffff"/>
                  </a:solidFill>
                  <a:latin typeface="Verdana"/>
                </a:rPr>
                <a:t>min</a:t>
              </a: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42" name="Rectangle 6"/>
            <p:cNvSpPr/>
            <p:nvPr/>
          </p:nvSpPr>
          <p:spPr>
            <a:xfrm>
              <a:off x="2847240" y="2707920"/>
              <a:ext cx="1149120" cy="547200"/>
            </a:xfrm>
            <a:prstGeom prst="rect">
              <a:avLst/>
            </a:prstGeom>
            <a:solidFill>
              <a:srgbClr val="f9cb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0" bIns="0" anchor="ctr">
              <a:no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43" name="Rectangle 7"/>
            <p:cNvSpPr/>
            <p:nvPr/>
          </p:nvSpPr>
          <p:spPr>
            <a:xfrm>
              <a:off x="4004280" y="2707920"/>
              <a:ext cx="1150560" cy="547200"/>
            </a:xfrm>
            <a:prstGeom prst="rect">
              <a:avLst/>
            </a:prstGeom>
            <a:solidFill>
              <a:srgbClr val="f9cb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0" bIns="0" anchor="ctr">
              <a:no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44" name="Rectangle 8"/>
            <p:cNvSpPr/>
            <p:nvPr/>
          </p:nvSpPr>
          <p:spPr>
            <a:xfrm>
              <a:off x="5158440" y="2707920"/>
              <a:ext cx="1150560" cy="547200"/>
            </a:xfrm>
            <a:prstGeom prst="rect">
              <a:avLst/>
            </a:prstGeom>
            <a:solidFill>
              <a:srgbClr val="f9cb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0" bIns="0" anchor="ctr">
              <a:no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45" name="Rectangle 9"/>
            <p:cNvSpPr/>
            <p:nvPr/>
          </p:nvSpPr>
          <p:spPr>
            <a:xfrm>
              <a:off x="539640" y="3261600"/>
              <a:ext cx="2301120" cy="547200"/>
            </a:xfrm>
            <a:prstGeom prst="rect">
              <a:avLst/>
            </a:prstGeom>
            <a:solidFill>
              <a:srgbClr val="f000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0" bIns="0" anchor="t">
              <a:no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de-DE" sz="2000" spc="-1" strike="noStrike">
                  <a:solidFill>
                    <a:srgbClr val="ffffff"/>
                  </a:solidFill>
                  <a:latin typeface="Verdana"/>
                </a:rPr>
                <a:t>Mild</a:t>
              </a: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46" name="Rectangle 10"/>
            <p:cNvSpPr/>
            <p:nvPr/>
          </p:nvSpPr>
          <p:spPr>
            <a:xfrm>
              <a:off x="2847240" y="3261600"/>
              <a:ext cx="1149120" cy="547200"/>
            </a:xfrm>
            <a:prstGeom prst="rect">
              <a:avLst/>
            </a:prstGeom>
            <a:solidFill>
              <a:srgbClr val="fc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0" bIns="0" anchor="t">
              <a:no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Verdana"/>
                </a:rPr>
                <a:t>+</a:t>
              </a: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47" name="Rectangle 11"/>
            <p:cNvSpPr/>
            <p:nvPr/>
          </p:nvSpPr>
          <p:spPr>
            <a:xfrm>
              <a:off x="4004280" y="3261600"/>
              <a:ext cx="1150560" cy="547200"/>
            </a:xfrm>
            <a:prstGeom prst="rect">
              <a:avLst/>
            </a:prstGeom>
            <a:solidFill>
              <a:srgbClr val="fc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0" bIns="0" anchor="t">
              <a:no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48" name="Rectangle 12"/>
            <p:cNvSpPr/>
            <p:nvPr/>
          </p:nvSpPr>
          <p:spPr>
            <a:xfrm>
              <a:off x="5158440" y="3261600"/>
              <a:ext cx="1150560" cy="547200"/>
            </a:xfrm>
            <a:prstGeom prst="rect">
              <a:avLst/>
            </a:prstGeom>
            <a:solidFill>
              <a:srgbClr val="fc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0" bIns="0" anchor="t">
              <a:no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49" name="Rectangle 13"/>
            <p:cNvSpPr/>
            <p:nvPr/>
          </p:nvSpPr>
          <p:spPr>
            <a:xfrm>
              <a:off x="6316920" y="3261600"/>
              <a:ext cx="2197800" cy="547200"/>
            </a:xfrm>
            <a:prstGeom prst="rect">
              <a:avLst/>
            </a:prstGeom>
            <a:solidFill>
              <a:srgbClr val="fc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0" bIns="0" anchor="t">
              <a:no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50" name="Rectangle 14"/>
            <p:cNvSpPr/>
            <p:nvPr/>
          </p:nvSpPr>
          <p:spPr>
            <a:xfrm>
              <a:off x="539640" y="3814200"/>
              <a:ext cx="2301120" cy="547200"/>
            </a:xfrm>
            <a:prstGeom prst="rect">
              <a:avLst/>
            </a:prstGeom>
            <a:solidFill>
              <a:srgbClr val="f000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0" bIns="0" anchor="t">
              <a:no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de-DE" sz="2000" spc="-1" strike="noStrike">
                  <a:solidFill>
                    <a:srgbClr val="ffffff"/>
                  </a:solidFill>
                  <a:latin typeface="Verdana"/>
                </a:rPr>
                <a:t>Severe</a:t>
              </a: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51" name="Rectangle 15"/>
            <p:cNvSpPr/>
            <p:nvPr/>
          </p:nvSpPr>
          <p:spPr>
            <a:xfrm>
              <a:off x="2847240" y="3814200"/>
              <a:ext cx="1149120" cy="547200"/>
            </a:xfrm>
            <a:prstGeom prst="rect">
              <a:avLst/>
            </a:prstGeom>
            <a:solidFill>
              <a:srgbClr val="f9cb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0" bIns="0" anchor="t">
              <a:no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Verdana"/>
                </a:rPr>
                <a:t>+</a:t>
              </a: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52" name="Rectangle 16"/>
            <p:cNvSpPr/>
            <p:nvPr/>
          </p:nvSpPr>
          <p:spPr>
            <a:xfrm>
              <a:off x="4004280" y="3814200"/>
              <a:ext cx="1150560" cy="547200"/>
            </a:xfrm>
            <a:prstGeom prst="rect">
              <a:avLst/>
            </a:prstGeom>
            <a:solidFill>
              <a:srgbClr val="f9cb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0" bIns="0" anchor="t">
              <a:no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+ </a:t>
              </a: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53" name="Rectangle 17"/>
            <p:cNvSpPr/>
            <p:nvPr/>
          </p:nvSpPr>
          <p:spPr>
            <a:xfrm>
              <a:off x="5158440" y="3814200"/>
              <a:ext cx="1150560" cy="547200"/>
            </a:xfrm>
            <a:prstGeom prst="rect">
              <a:avLst/>
            </a:prstGeom>
            <a:solidFill>
              <a:srgbClr val="f9cb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0" bIns="0" anchor="t">
              <a:no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+</a:t>
              </a: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54" name="Rectangle 18"/>
            <p:cNvSpPr/>
            <p:nvPr/>
          </p:nvSpPr>
          <p:spPr>
            <a:xfrm>
              <a:off x="6316920" y="3814200"/>
              <a:ext cx="2197800" cy="547200"/>
            </a:xfrm>
            <a:prstGeom prst="rect">
              <a:avLst/>
            </a:prstGeom>
            <a:solidFill>
              <a:srgbClr val="f9cb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0" bIns="0" anchor="t">
              <a:no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Verdana"/>
                </a:rPr>
                <a:t>0,5</a:t>
              </a: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55" name="Rectangle 19"/>
            <p:cNvSpPr/>
            <p:nvPr/>
          </p:nvSpPr>
          <p:spPr>
            <a:xfrm>
              <a:off x="539640" y="4367880"/>
              <a:ext cx="2301120" cy="547200"/>
            </a:xfrm>
            <a:prstGeom prst="rect">
              <a:avLst/>
            </a:prstGeom>
            <a:solidFill>
              <a:srgbClr val="f000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0" bIns="0" anchor="t">
              <a:no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de-DE" sz="2000" spc="-1" strike="noStrike">
                  <a:solidFill>
                    <a:srgbClr val="ffffff"/>
                  </a:solidFill>
                  <a:latin typeface="Verdana"/>
                </a:rPr>
                <a:t>Mild</a:t>
              </a: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56" name="Rectangle 20"/>
            <p:cNvSpPr/>
            <p:nvPr/>
          </p:nvSpPr>
          <p:spPr>
            <a:xfrm>
              <a:off x="2847240" y="4367880"/>
              <a:ext cx="1149120" cy="547200"/>
            </a:xfrm>
            <a:prstGeom prst="rect">
              <a:avLst/>
            </a:prstGeom>
            <a:solidFill>
              <a:srgbClr val="fc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0" bIns="0" anchor="t">
              <a:no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57" name="Rectangle 21"/>
            <p:cNvSpPr/>
            <p:nvPr/>
          </p:nvSpPr>
          <p:spPr>
            <a:xfrm>
              <a:off x="4004280" y="4367880"/>
              <a:ext cx="1150560" cy="547200"/>
            </a:xfrm>
            <a:prstGeom prst="rect">
              <a:avLst/>
            </a:prstGeom>
            <a:solidFill>
              <a:srgbClr val="fc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0" bIns="0" anchor="t">
              <a:no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Verdana"/>
                </a:rPr>
                <a:t>+</a:t>
              </a: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58" name="Rectangle 22"/>
            <p:cNvSpPr/>
            <p:nvPr/>
          </p:nvSpPr>
          <p:spPr>
            <a:xfrm>
              <a:off x="5158440" y="4367880"/>
              <a:ext cx="1150560" cy="547200"/>
            </a:xfrm>
            <a:prstGeom prst="rect">
              <a:avLst/>
            </a:prstGeom>
            <a:solidFill>
              <a:srgbClr val="fc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0" bIns="0" anchor="t">
              <a:no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59" name="Rectangle 23"/>
            <p:cNvSpPr/>
            <p:nvPr/>
          </p:nvSpPr>
          <p:spPr>
            <a:xfrm>
              <a:off x="6316920" y="4367880"/>
              <a:ext cx="2197800" cy="547200"/>
            </a:xfrm>
            <a:prstGeom prst="rect">
              <a:avLst/>
            </a:prstGeom>
            <a:solidFill>
              <a:srgbClr val="fc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0" bIns="0" anchor="t">
              <a:no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0" name="Rectangle 24"/>
            <p:cNvSpPr/>
            <p:nvPr/>
          </p:nvSpPr>
          <p:spPr>
            <a:xfrm>
              <a:off x="539640" y="4923360"/>
              <a:ext cx="2301120" cy="547200"/>
            </a:xfrm>
            <a:prstGeom prst="rect">
              <a:avLst/>
            </a:prstGeom>
            <a:solidFill>
              <a:srgbClr val="f000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0" bIns="0" anchor="t">
              <a:no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de-DE" sz="2000" spc="-1" strike="noStrike">
                  <a:solidFill>
                    <a:srgbClr val="ffffff"/>
                  </a:solidFill>
                  <a:latin typeface="Verdana"/>
                </a:rPr>
                <a:t>Severe</a:t>
              </a: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1" name="Rectangle 25"/>
            <p:cNvSpPr/>
            <p:nvPr/>
          </p:nvSpPr>
          <p:spPr>
            <a:xfrm>
              <a:off x="2847240" y="4923360"/>
              <a:ext cx="1149120" cy="547200"/>
            </a:xfrm>
            <a:prstGeom prst="rect">
              <a:avLst/>
            </a:prstGeom>
            <a:solidFill>
              <a:srgbClr val="f9cb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0" bIns="0" anchor="t">
              <a:no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2" name="Rectangle 26"/>
            <p:cNvSpPr/>
            <p:nvPr/>
          </p:nvSpPr>
          <p:spPr>
            <a:xfrm>
              <a:off x="4004280" y="4923360"/>
              <a:ext cx="1150560" cy="547200"/>
            </a:xfrm>
            <a:prstGeom prst="rect">
              <a:avLst/>
            </a:prstGeom>
            <a:solidFill>
              <a:srgbClr val="f9cb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0" bIns="0" anchor="t">
              <a:no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Verdana"/>
                </a:rPr>
                <a:t>+</a:t>
              </a: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3" name="Rectangle 27"/>
            <p:cNvSpPr/>
            <p:nvPr/>
          </p:nvSpPr>
          <p:spPr>
            <a:xfrm>
              <a:off x="5158440" y="4923360"/>
              <a:ext cx="1150560" cy="547200"/>
            </a:xfrm>
            <a:prstGeom prst="rect">
              <a:avLst/>
            </a:prstGeom>
            <a:solidFill>
              <a:srgbClr val="f9cb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0" bIns="0" anchor="t">
              <a:no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+ </a:t>
              </a: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4" name="Rectangle 28"/>
            <p:cNvSpPr/>
            <p:nvPr/>
          </p:nvSpPr>
          <p:spPr>
            <a:xfrm>
              <a:off x="6316920" y="4923360"/>
              <a:ext cx="2197800" cy="547200"/>
            </a:xfrm>
            <a:prstGeom prst="rect">
              <a:avLst/>
            </a:prstGeom>
            <a:solidFill>
              <a:srgbClr val="f9cb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0" bIns="0" anchor="t">
              <a:no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Verdana"/>
                </a:rPr>
                <a:t>1,5</a:t>
              </a: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5" name="Rectangle 29"/>
            <p:cNvSpPr/>
            <p:nvPr/>
          </p:nvSpPr>
          <p:spPr>
            <a:xfrm>
              <a:off x="539640" y="5478480"/>
              <a:ext cx="2301120" cy="547560"/>
            </a:xfrm>
            <a:prstGeom prst="rect">
              <a:avLst/>
            </a:prstGeom>
            <a:solidFill>
              <a:srgbClr val="f000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0" bIns="0" anchor="t">
              <a:no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de-DE" sz="2000" spc="-1" strike="noStrike">
                  <a:solidFill>
                    <a:srgbClr val="ffffff"/>
                  </a:solidFill>
                  <a:latin typeface="Verdana"/>
                </a:rPr>
                <a:t>Mild</a:t>
              </a: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6" name="Rectangle 30"/>
            <p:cNvSpPr/>
            <p:nvPr/>
          </p:nvSpPr>
          <p:spPr>
            <a:xfrm>
              <a:off x="2847240" y="5478480"/>
              <a:ext cx="1149120" cy="547560"/>
            </a:xfrm>
            <a:prstGeom prst="rect">
              <a:avLst/>
            </a:prstGeom>
            <a:solidFill>
              <a:srgbClr val="fc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0" bIns="0" anchor="t">
              <a:no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7" name="Rectangle 31"/>
            <p:cNvSpPr/>
            <p:nvPr/>
          </p:nvSpPr>
          <p:spPr>
            <a:xfrm>
              <a:off x="4004280" y="5478480"/>
              <a:ext cx="1150560" cy="547560"/>
            </a:xfrm>
            <a:prstGeom prst="rect">
              <a:avLst/>
            </a:prstGeom>
            <a:solidFill>
              <a:srgbClr val="fc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0" bIns="0" anchor="t">
              <a:no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8" name="Rectangle 32"/>
            <p:cNvSpPr/>
            <p:nvPr/>
          </p:nvSpPr>
          <p:spPr>
            <a:xfrm>
              <a:off x="5158440" y="5478480"/>
              <a:ext cx="1150560" cy="547560"/>
            </a:xfrm>
            <a:prstGeom prst="rect">
              <a:avLst/>
            </a:prstGeom>
            <a:solidFill>
              <a:srgbClr val="fc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0" bIns="0" anchor="t">
              <a:no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Verdana"/>
                </a:rPr>
                <a:t>+</a:t>
              </a: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9" name="Rectangle 33"/>
            <p:cNvSpPr/>
            <p:nvPr/>
          </p:nvSpPr>
          <p:spPr>
            <a:xfrm>
              <a:off x="6316920" y="5478480"/>
              <a:ext cx="2197800" cy="547560"/>
            </a:xfrm>
            <a:prstGeom prst="rect">
              <a:avLst/>
            </a:prstGeom>
            <a:solidFill>
              <a:srgbClr val="fc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0" bIns="0" anchor="t">
              <a:no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70" name="Rectangle 34"/>
            <p:cNvSpPr/>
            <p:nvPr/>
          </p:nvSpPr>
          <p:spPr>
            <a:xfrm>
              <a:off x="539640" y="6034320"/>
              <a:ext cx="2301120" cy="547200"/>
            </a:xfrm>
            <a:prstGeom prst="rect">
              <a:avLst/>
            </a:prstGeom>
            <a:solidFill>
              <a:srgbClr val="f000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0" bIns="0" anchor="t">
              <a:no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de-DE" sz="2000" spc="-1" strike="noStrike">
                  <a:solidFill>
                    <a:srgbClr val="ffffff"/>
                  </a:solidFill>
                  <a:latin typeface="Verdana"/>
                </a:rPr>
                <a:t>Severe</a:t>
              </a: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71" name="Rectangle 35"/>
            <p:cNvSpPr/>
            <p:nvPr/>
          </p:nvSpPr>
          <p:spPr>
            <a:xfrm>
              <a:off x="2847240" y="6034320"/>
              <a:ext cx="1149120" cy="547200"/>
            </a:xfrm>
            <a:prstGeom prst="rect">
              <a:avLst/>
            </a:prstGeom>
            <a:solidFill>
              <a:srgbClr val="f9cb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0" bIns="0" anchor="t">
              <a:no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72" name="Rectangle 36"/>
            <p:cNvSpPr/>
            <p:nvPr/>
          </p:nvSpPr>
          <p:spPr>
            <a:xfrm>
              <a:off x="4004280" y="6034320"/>
              <a:ext cx="1150560" cy="547200"/>
            </a:xfrm>
            <a:prstGeom prst="rect">
              <a:avLst/>
            </a:prstGeom>
            <a:solidFill>
              <a:srgbClr val="f9cb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0" bIns="0" anchor="t">
              <a:no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73" name="Rectangle 37"/>
            <p:cNvSpPr/>
            <p:nvPr/>
          </p:nvSpPr>
          <p:spPr>
            <a:xfrm>
              <a:off x="5158440" y="6034320"/>
              <a:ext cx="1150560" cy="547200"/>
            </a:xfrm>
            <a:prstGeom prst="rect">
              <a:avLst/>
            </a:prstGeom>
            <a:solidFill>
              <a:srgbClr val="f9cb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0" bIns="0" anchor="t">
              <a:no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Verdana"/>
                </a:rPr>
                <a:t>+</a:t>
              </a: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74" name="Rectangle 38"/>
            <p:cNvSpPr/>
            <p:nvPr/>
          </p:nvSpPr>
          <p:spPr>
            <a:xfrm>
              <a:off x="6316920" y="6034320"/>
              <a:ext cx="2197800" cy="547200"/>
            </a:xfrm>
            <a:prstGeom prst="rect">
              <a:avLst/>
            </a:prstGeom>
            <a:solidFill>
              <a:srgbClr val="f9cb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0" bIns="0" anchor="t">
              <a:no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Verdana"/>
                </a:rPr>
                <a:t>3,5</a:t>
              </a: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75" name="Line 39"/>
            <p:cNvSpPr/>
            <p:nvPr/>
          </p:nvSpPr>
          <p:spPr>
            <a:xfrm>
              <a:off x="2847240" y="1557360"/>
              <a:ext cx="0" cy="114120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spcAft>
                  <a:spcPts val="45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76" name="Line 40"/>
            <p:cNvSpPr/>
            <p:nvPr/>
          </p:nvSpPr>
          <p:spPr>
            <a:xfrm>
              <a:off x="2847240" y="2707920"/>
              <a:ext cx="0" cy="547200"/>
            </a:xfrm>
            <a:prstGeom prst="line">
              <a:avLst/>
            </a:prstGeom>
            <a:ln cap="sq"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spcAft>
                  <a:spcPts val="45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77" name="Line 41"/>
            <p:cNvSpPr/>
            <p:nvPr/>
          </p:nvSpPr>
          <p:spPr>
            <a:xfrm>
              <a:off x="2847240" y="3261600"/>
              <a:ext cx="0" cy="331848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spcAft>
                  <a:spcPts val="45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78" name="Line 42"/>
            <p:cNvSpPr/>
            <p:nvPr/>
          </p:nvSpPr>
          <p:spPr>
            <a:xfrm>
              <a:off x="4004280" y="2707920"/>
              <a:ext cx="0" cy="387360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spcAft>
                  <a:spcPts val="45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79" name="Line 43"/>
            <p:cNvSpPr/>
            <p:nvPr/>
          </p:nvSpPr>
          <p:spPr>
            <a:xfrm>
              <a:off x="5158440" y="2707920"/>
              <a:ext cx="0" cy="387360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spcAft>
                  <a:spcPts val="45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80" name="Line 44"/>
            <p:cNvSpPr/>
            <p:nvPr/>
          </p:nvSpPr>
          <p:spPr>
            <a:xfrm>
              <a:off x="6316920" y="1557360"/>
              <a:ext cx="0" cy="114120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spcAft>
                  <a:spcPts val="45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81" name="Line 45"/>
            <p:cNvSpPr/>
            <p:nvPr/>
          </p:nvSpPr>
          <p:spPr>
            <a:xfrm>
              <a:off x="6316920" y="2707920"/>
              <a:ext cx="0" cy="547200"/>
            </a:xfrm>
            <a:prstGeom prst="line">
              <a:avLst/>
            </a:prstGeom>
            <a:ln cap="sq"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spcAft>
                  <a:spcPts val="45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82" name="Line 46"/>
            <p:cNvSpPr/>
            <p:nvPr/>
          </p:nvSpPr>
          <p:spPr>
            <a:xfrm>
              <a:off x="6316920" y="3261600"/>
              <a:ext cx="0" cy="331848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spcAft>
                  <a:spcPts val="45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83" name="Line 47"/>
            <p:cNvSpPr/>
            <p:nvPr/>
          </p:nvSpPr>
          <p:spPr>
            <a:xfrm>
              <a:off x="2847240" y="2707920"/>
              <a:ext cx="3461400" cy="0"/>
            </a:xfrm>
            <a:prstGeom prst="line">
              <a:avLst/>
            </a:prstGeom>
            <a:ln cap="sq"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spcAft>
                  <a:spcPts val="45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84" name="Line 48"/>
            <p:cNvSpPr/>
            <p:nvPr/>
          </p:nvSpPr>
          <p:spPr>
            <a:xfrm>
              <a:off x="539640" y="3261600"/>
              <a:ext cx="2301120" cy="0"/>
            </a:xfrm>
            <a:prstGeom prst="line">
              <a:avLst/>
            </a:prstGeom>
            <a:ln cap="sq"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spcAft>
                  <a:spcPts val="45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85" name="Line 49"/>
            <p:cNvSpPr/>
            <p:nvPr/>
          </p:nvSpPr>
          <p:spPr>
            <a:xfrm>
              <a:off x="2847240" y="3261600"/>
              <a:ext cx="346140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spcAft>
                  <a:spcPts val="45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86" name="Line 50"/>
            <p:cNvSpPr/>
            <p:nvPr/>
          </p:nvSpPr>
          <p:spPr>
            <a:xfrm>
              <a:off x="6316920" y="3261600"/>
              <a:ext cx="2197800" cy="0"/>
            </a:xfrm>
            <a:prstGeom prst="line">
              <a:avLst/>
            </a:prstGeom>
            <a:ln cap="sq"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spcAft>
                  <a:spcPts val="45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87" name="Line 51"/>
            <p:cNvSpPr/>
            <p:nvPr/>
          </p:nvSpPr>
          <p:spPr>
            <a:xfrm>
              <a:off x="539640" y="3814200"/>
              <a:ext cx="797724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spcAft>
                  <a:spcPts val="45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88" name="Line 52"/>
            <p:cNvSpPr/>
            <p:nvPr/>
          </p:nvSpPr>
          <p:spPr>
            <a:xfrm>
              <a:off x="539640" y="4367880"/>
              <a:ext cx="797724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spcAft>
                  <a:spcPts val="45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89" name="Line 53"/>
            <p:cNvSpPr/>
            <p:nvPr/>
          </p:nvSpPr>
          <p:spPr>
            <a:xfrm>
              <a:off x="539640" y="4923360"/>
              <a:ext cx="797724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spcAft>
                  <a:spcPts val="45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90" name="Line 54"/>
            <p:cNvSpPr/>
            <p:nvPr/>
          </p:nvSpPr>
          <p:spPr>
            <a:xfrm>
              <a:off x="539640" y="5478480"/>
              <a:ext cx="797724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spcAft>
                  <a:spcPts val="45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91" name="Line 55"/>
            <p:cNvSpPr/>
            <p:nvPr/>
          </p:nvSpPr>
          <p:spPr>
            <a:xfrm>
              <a:off x="539640" y="6034320"/>
              <a:ext cx="797724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spcAft>
                  <a:spcPts val="45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92" name="Line 56"/>
            <p:cNvSpPr/>
            <p:nvPr/>
          </p:nvSpPr>
          <p:spPr>
            <a:xfrm>
              <a:off x="539640" y="1557360"/>
              <a:ext cx="0" cy="502452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spcAft>
                  <a:spcPts val="45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93" name="Line 57"/>
            <p:cNvSpPr/>
            <p:nvPr/>
          </p:nvSpPr>
          <p:spPr>
            <a:xfrm>
              <a:off x="8524800" y="1557360"/>
              <a:ext cx="0" cy="502452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spcAft>
                  <a:spcPts val="45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94" name="Line 58"/>
            <p:cNvSpPr/>
            <p:nvPr/>
          </p:nvSpPr>
          <p:spPr>
            <a:xfrm>
              <a:off x="539640" y="1557360"/>
              <a:ext cx="797724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spcAft>
                  <a:spcPts val="45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95" name="Line 59"/>
            <p:cNvSpPr/>
            <p:nvPr/>
          </p:nvSpPr>
          <p:spPr>
            <a:xfrm>
              <a:off x="539640" y="6589800"/>
              <a:ext cx="797724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spcAft>
                  <a:spcPts val="45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DE" sz="2600" spc="-1" strike="noStrike">
                <a:solidFill>
                  <a:srgbClr val="f0000c"/>
                </a:solidFill>
                <a:latin typeface="Verdana"/>
              </a:rPr>
              <a:t>EM </a:t>
            </a:r>
            <a:r>
              <a:rPr b="1" lang="en-US" sz="2600" spc="-1" strike="noStrike">
                <a:solidFill>
                  <a:srgbClr val="f0000c"/>
                </a:solidFill>
                <a:latin typeface="Verdana"/>
              </a:rPr>
              <a:t>SPECTRUM ACCORDING TO THE WAVELENGTH OF ACTIVE</a:t>
            </a:r>
            <a:r>
              <a:rPr b="1" lang="de-DE" sz="2600" spc="-1" strike="noStrike">
                <a:solidFill>
                  <a:srgbClr val="f0000c"/>
                </a:solidFill>
                <a:latin typeface="Verdana"/>
              </a:rPr>
              <a:t> ЕМ </a:t>
            </a:r>
            <a:r>
              <a:rPr b="1" lang="en-US" sz="2600" spc="-1" strike="noStrike">
                <a:solidFill>
                  <a:srgbClr val="f0000c"/>
                </a:solidFill>
                <a:latin typeface="Verdana"/>
              </a:rPr>
              <a:t>RAYS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54" name="Picture 2" descr=""/>
          <p:cNvPicPr/>
          <p:nvPr/>
        </p:nvPicPr>
        <p:blipFill>
          <a:blip r:embed="rId1"/>
          <a:stretch/>
        </p:blipFill>
        <p:spPr>
          <a:xfrm>
            <a:off x="1403280" y="1844640"/>
            <a:ext cx="5905440" cy="3816360"/>
          </a:xfrm>
          <a:prstGeom prst="rect">
            <a:avLst/>
          </a:prstGeom>
          <a:ln w="0">
            <a:noFill/>
          </a:ln>
        </p:spPr>
      </p:pic>
      <p:sp>
        <p:nvSpPr>
          <p:cNvPr id="255" name="Text Box 3"/>
          <p:cNvSpPr/>
          <p:nvPr/>
        </p:nvSpPr>
        <p:spPr>
          <a:xfrm>
            <a:off x="2530080" y="2013120"/>
            <a:ext cx="270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X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" name="Text Box 4"/>
          <p:cNvSpPr/>
          <p:nvPr/>
        </p:nvSpPr>
        <p:spPr>
          <a:xfrm>
            <a:off x="3282480" y="1969920"/>
            <a:ext cx="3834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UV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Text Box 5"/>
          <p:cNvSpPr/>
          <p:nvPr/>
        </p:nvSpPr>
        <p:spPr>
          <a:xfrm>
            <a:off x="1670400" y="1890720"/>
            <a:ext cx="2613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ᵞ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8" name="Text Box 6"/>
          <p:cNvSpPr/>
          <p:nvPr/>
        </p:nvSpPr>
        <p:spPr>
          <a:xfrm>
            <a:off x="5075280" y="1984320"/>
            <a:ext cx="3286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C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Text Box 7"/>
          <p:cNvSpPr/>
          <p:nvPr/>
        </p:nvSpPr>
        <p:spPr>
          <a:xfrm>
            <a:off x="5622840" y="1984320"/>
            <a:ext cx="5922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icro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0" name="Text Box 8"/>
          <p:cNvSpPr/>
          <p:nvPr/>
        </p:nvSpPr>
        <p:spPr>
          <a:xfrm>
            <a:off x="6263280" y="1969920"/>
            <a:ext cx="99756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adiowaves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DE" sz="2800" spc="-1" strike="noStrike">
                <a:solidFill>
                  <a:srgbClr val="f0000c"/>
                </a:solidFill>
                <a:latin typeface="Verdana"/>
              </a:rPr>
              <a:t>UV DOSING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7" name="Text Box 2"/>
          <p:cNvSpPr/>
          <p:nvPr/>
        </p:nvSpPr>
        <p:spPr>
          <a:xfrm>
            <a:off x="457200" y="1484280"/>
            <a:ext cx="814392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34800" indent="-334800">
              <a:lnSpc>
                <a:spcPct val="1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uberythemal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dose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 in children ⅛ of biodosis, in adults ¼, 1/3 or ½ of biodosi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just perceptible redness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rythemal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dose 1-3 biodoses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erythema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Hypererythemal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3-5 biodoses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intensive erythema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, bulla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;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arely applied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(skin diseases with  thickened epidermal stratum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DE" sz="2800" spc="-1" strike="noStrike">
                <a:solidFill>
                  <a:srgbClr val="f0000c"/>
                </a:solidFill>
                <a:latin typeface="Verdana"/>
              </a:rPr>
              <a:t>UV DOSING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9" name="Text Box 2"/>
          <p:cNvSpPr/>
          <p:nvPr/>
        </p:nvSpPr>
        <p:spPr>
          <a:xfrm>
            <a:off x="457200" y="1484280"/>
            <a:ext cx="814392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34800" indent="-334800">
              <a:lnSpc>
                <a:spcPct val="1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uberythemal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dose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 in children ⅛ of biodosis, in adults ¼, 1/3 or ½ of biodosi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just perceptible redness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rythemal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dose 1-3 biodoses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erythema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Hypererythemal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3-5 biodoses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intensive erythema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, bulla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;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arely applied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(skin diseases with  thickened epidermal stratum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DE" sz="2800" spc="-1" strike="noStrike">
                <a:solidFill>
                  <a:srgbClr val="f0000c"/>
                </a:solidFill>
                <a:latin typeface="Verdana"/>
              </a:rPr>
              <a:t>INJURIES CAUSED BY UV RADIATI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1" name="Text Box 2"/>
          <p:cNvSpPr/>
          <p:nvPr/>
        </p:nvSpPr>
        <p:spPr>
          <a:xfrm>
            <a:off x="457200" y="1484280"/>
            <a:ext cx="814392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34800" indent="-334800">
              <a:lnSpc>
                <a:spcPct val="1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Keratoconjunctivitis ("snow blindness") when looking directly at the source of radiation;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wearing protective glass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urns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 –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when radiation exposure is overdose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ecancerous and cancerous skin lesions (important for cosmetology)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DE" sz="2800" spc="-1" strike="noStrike">
                <a:solidFill>
                  <a:srgbClr val="f0000c"/>
                </a:solidFill>
                <a:latin typeface="Verdana"/>
              </a:rPr>
              <a:t>Indications for GENERAL </a:t>
            </a:r>
            <a:r>
              <a:rPr b="1" lang="en-US" sz="2800" spc="-1" strike="noStrike">
                <a:solidFill>
                  <a:srgbClr val="f0000c"/>
                </a:solidFill>
                <a:latin typeface="Verdana"/>
              </a:rPr>
              <a:t>applicati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3" name="Text Box 2"/>
          <p:cNvSpPr/>
          <p:nvPr/>
        </p:nvSpPr>
        <p:spPr>
          <a:xfrm>
            <a:off x="457200" y="1484280"/>
            <a:ext cx="814392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74880" indent="-335160">
              <a:lnSpc>
                <a:spcPct val="2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74880"/>
                <a:tab algn="l" pos="1432080"/>
                <a:tab algn="l" pos="1889280"/>
                <a:tab algn="l" pos="2346480"/>
                <a:tab algn="l" pos="2803680"/>
                <a:tab algn="l" pos="3260880"/>
                <a:tab algn="l" pos="3718080"/>
                <a:tab algn="l" pos="4175280"/>
                <a:tab algn="l" pos="4632480"/>
                <a:tab algn="l" pos="5089680"/>
                <a:tab algn="l" pos="5546880"/>
                <a:tab algn="l" pos="6004080"/>
                <a:tab algn="l" pos="6461280"/>
                <a:tab algn="l" pos="6918480"/>
                <a:tab algn="l" pos="7375680"/>
                <a:tab algn="l" pos="7832880"/>
                <a:tab algn="l" pos="8290080"/>
                <a:tab algn="l" pos="8747280"/>
                <a:tab algn="l" pos="9204480"/>
                <a:tab algn="l" pos="9661680"/>
                <a:tab algn="l" pos="1011888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Reconvalescenc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974880" indent="-335160">
              <a:lnSpc>
                <a:spcPct val="2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74880"/>
                <a:tab algn="l" pos="1432080"/>
                <a:tab algn="l" pos="1889280"/>
                <a:tab algn="l" pos="2346480"/>
                <a:tab algn="l" pos="2803680"/>
                <a:tab algn="l" pos="3260880"/>
                <a:tab algn="l" pos="3718080"/>
                <a:tab algn="l" pos="4175280"/>
                <a:tab algn="l" pos="4632480"/>
                <a:tab algn="l" pos="5089680"/>
                <a:tab algn="l" pos="5546880"/>
                <a:tab algn="l" pos="6004080"/>
                <a:tab algn="l" pos="6461280"/>
                <a:tab algn="l" pos="6918480"/>
                <a:tab algn="l" pos="7375680"/>
                <a:tab algn="l" pos="7832880"/>
                <a:tab algn="l" pos="8290080"/>
                <a:tab algn="l" pos="8747280"/>
                <a:tab algn="l" pos="9204480"/>
                <a:tab algn="l" pos="9661680"/>
                <a:tab algn="l" pos="1011888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Anemi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974880" indent="-335160">
              <a:lnSpc>
                <a:spcPct val="2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74880"/>
                <a:tab algn="l" pos="1432080"/>
                <a:tab algn="l" pos="1889280"/>
                <a:tab algn="l" pos="2346480"/>
                <a:tab algn="l" pos="2803680"/>
                <a:tab algn="l" pos="3260880"/>
                <a:tab algn="l" pos="3718080"/>
                <a:tab algn="l" pos="4175280"/>
                <a:tab algn="l" pos="4632480"/>
                <a:tab algn="l" pos="5089680"/>
                <a:tab algn="l" pos="5546880"/>
                <a:tab algn="l" pos="6004080"/>
                <a:tab algn="l" pos="6461280"/>
                <a:tab algn="l" pos="6918480"/>
                <a:tab algn="l" pos="7375680"/>
                <a:tab algn="l" pos="7832880"/>
                <a:tab algn="l" pos="8290080"/>
                <a:tab algn="l" pos="8747280"/>
                <a:tab algn="l" pos="9204480"/>
                <a:tab algn="l" pos="9661680"/>
                <a:tab algn="l" pos="1011888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Osteoporosi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974880" indent="-335160">
              <a:lnSpc>
                <a:spcPct val="2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74880"/>
                <a:tab algn="l" pos="1432080"/>
                <a:tab algn="l" pos="1889280"/>
                <a:tab algn="l" pos="2346480"/>
                <a:tab algn="l" pos="2803680"/>
                <a:tab algn="l" pos="3260880"/>
                <a:tab algn="l" pos="3718080"/>
                <a:tab algn="l" pos="4175280"/>
                <a:tab algn="l" pos="4632480"/>
                <a:tab algn="l" pos="5089680"/>
                <a:tab algn="l" pos="5546880"/>
                <a:tab algn="l" pos="6004080"/>
                <a:tab algn="l" pos="6461280"/>
                <a:tab algn="l" pos="6918480"/>
                <a:tab algn="l" pos="7375680"/>
                <a:tab algn="l" pos="7832880"/>
                <a:tab algn="l" pos="8290080"/>
                <a:tab algn="l" pos="8747280"/>
                <a:tab algn="l" pos="9204480"/>
                <a:tab algn="l" pos="9661680"/>
                <a:tab algn="l" pos="1011888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Osteomalaci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974880" indent="-335160">
              <a:lnSpc>
                <a:spcPct val="2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74880"/>
                <a:tab algn="l" pos="1432080"/>
                <a:tab algn="l" pos="1889280"/>
                <a:tab algn="l" pos="2346480"/>
                <a:tab algn="l" pos="2803680"/>
                <a:tab algn="l" pos="3260880"/>
                <a:tab algn="l" pos="3718080"/>
                <a:tab algn="l" pos="4175280"/>
                <a:tab algn="l" pos="4632480"/>
                <a:tab algn="l" pos="5089680"/>
                <a:tab algn="l" pos="5546880"/>
                <a:tab algn="l" pos="6004080"/>
                <a:tab algn="l" pos="6461280"/>
                <a:tab algn="l" pos="6918480"/>
                <a:tab algn="l" pos="7375680"/>
                <a:tab algn="l" pos="7832880"/>
                <a:tab algn="l" pos="8290080"/>
                <a:tab algn="l" pos="8747280"/>
                <a:tab algn="l" pos="9204480"/>
                <a:tab algn="l" pos="9661680"/>
                <a:tab algn="l" pos="1011888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Rachiti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974880" indent="-335160">
              <a:lnSpc>
                <a:spcPct val="2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74880"/>
                <a:tab algn="l" pos="1432080"/>
                <a:tab algn="l" pos="1889280"/>
                <a:tab algn="l" pos="2346480"/>
                <a:tab algn="l" pos="2803680"/>
                <a:tab algn="l" pos="3260880"/>
                <a:tab algn="l" pos="3718080"/>
                <a:tab algn="l" pos="4175280"/>
                <a:tab algn="l" pos="4632480"/>
                <a:tab algn="l" pos="5089680"/>
                <a:tab algn="l" pos="5546880"/>
                <a:tab algn="l" pos="6004080"/>
                <a:tab algn="l" pos="6461280"/>
                <a:tab algn="l" pos="6918480"/>
                <a:tab algn="l" pos="7375680"/>
                <a:tab algn="l" pos="7832880"/>
                <a:tab algn="l" pos="8290080"/>
                <a:tab algn="l" pos="8747280"/>
                <a:tab algn="l" pos="9204480"/>
                <a:tab algn="l" pos="9661680"/>
                <a:tab algn="l" pos="1011888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Osteomyeliti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974880" indent="-33516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74880"/>
                <a:tab algn="l" pos="1432080"/>
                <a:tab algn="l" pos="1889280"/>
                <a:tab algn="l" pos="2346480"/>
                <a:tab algn="l" pos="2803680"/>
                <a:tab algn="l" pos="3260880"/>
                <a:tab algn="l" pos="3718080"/>
                <a:tab algn="l" pos="4175280"/>
                <a:tab algn="l" pos="4632480"/>
                <a:tab algn="l" pos="5089680"/>
                <a:tab algn="l" pos="5546880"/>
                <a:tab algn="l" pos="6004080"/>
                <a:tab algn="l" pos="6461280"/>
                <a:tab algn="l" pos="6918480"/>
                <a:tab algn="l" pos="7375680"/>
                <a:tab algn="l" pos="7832880"/>
                <a:tab algn="l" pos="8290080"/>
                <a:tab algn="l" pos="8747280"/>
                <a:tab algn="l" pos="9204480"/>
                <a:tab algn="l" pos="9661680"/>
                <a:tab algn="l" pos="1011888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974880" indent="-33516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74880"/>
                <a:tab algn="l" pos="1432080"/>
                <a:tab algn="l" pos="1889280"/>
                <a:tab algn="l" pos="2346480"/>
                <a:tab algn="l" pos="2803680"/>
                <a:tab algn="l" pos="3260880"/>
                <a:tab algn="l" pos="3718080"/>
                <a:tab algn="l" pos="4175280"/>
                <a:tab algn="l" pos="4632480"/>
                <a:tab algn="l" pos="5089680"/>
                <a:tab algn="l" pos="5546880"/>
                <a:tab algn="l" pos="6004080"/>
                <a:tab algn="l" pos="6461280"/>
                <a:tab algn="l" pos="6918480"/>
                <a:tab algn="l" pos="7375680"/>
                <a:tab algn="l" pos="7832880"/>
                <a:tab algn="l" pos="8290080"/>
                <a:tab algn="l" pos="8747280"/>
                <a:tab algn="l" pos="9204480"/>
                <a:tab algn="l" pos="9661680"/>
                <a:tab algn="l" pos="1011888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974880" indent="-33516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74880"/>
                <a:tab algn="l" pos="1432080"/>
                <a:tab algn="l" pos="1889280"/>
                <a:tab algn="l" pos="2346480"/>
                <a:tab algn="l" pos="2803680"/>
                <a:tab algn="l" pos="3260880"/>
                <a:tab algn="l" pos="3718080"/>
                <a:tab algn="l" pos="4175280"/>
                <a:tab algn="l" pos="4632480"/>
                <a:tab algn="l" pos="5089680"/>
                <a:tab algn="l" pos="5546880"/>
                <a:tab algn="l" pos="6004080"/>
                <a:tab algn="l" pos="6461280"/>
                <a:tab algn="l" pos="6918480"/>
                <a:tab algn="l" pos="7375680"/>
                <a:tab algn="l" pos="7832880"/>
                <a:tab algn="l" pos="8290080"/>
                <a:tab algn="l" pos="8747280"/>
                <a:tab algn="l" pos="9204480"/>
                <a:tab algn="l" pos="9661680"/>
                <a:tab algn="l" pos="1011888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974880" indent="-3351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74880"/>
                <a:tab algn="l" pos="1432080"/>
                <a:tab algn="l" pos="1889280"/>
                <a:tab algn="l" pos="2346480"/>
                <a:tab algn="l" pos="2803680"/>
                <a:tab algn="l" pos="3260880"/>
                <a:tab algn="l" pos="3718080"/>
                <a:tab algn="l" pos="4175280"/>
                <a:tab algn="l" pos="4632480"/>
                <a:tab algn="l" pos="5089680"/>
                <a:tab algn="l" pos="5546880"/>
                <a:tab algn="l" pos="6004080"/>
                <a:tab algn="l" pos="6461280"/>
                <a:tab algn="l" pos="6918480"/>
                <a:tab algn="l" pos="7375680"/>
                <a:tab algn="l" pos="7832880"/>
                <a:tab algn="l" pos="8290080"/>
                <a:tab algn="l" pos="8747280"/>
                <a:tab algn="l" pos="9204480"/>
                <a:tab algn="l" pos="9661680"/>
                <a:tab algn="l" pos="1011888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DE" sz="2800" spc="-1" strike="noStrike">
                <a:solidFill>
                  <a:srgbClr val="f0000c"/>
                </a:solidFill>
                <a:latin typeface="Verdana"/>
              </a:rPr>
              <a:t>Indications for LOCAL </a:t>
            </a:r>
            <a:r>
              <a:rPr b="1" lang="en-US" sz="2800" spc="-1" strike="noStrike">
                <a:solidFill>
                  <a:srgbClr val="f0000c"/>
                </a:solidFill>
                <a:latin typeface="Verdana"/>
              </a:rPr>
              <a:t>applicati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5" name="Text Box 2"/>
          <p:cNvSpPr/>
          <p:nvPr/>
        </p:nvSpPr>
        <p:spPr>
          <a:xfrm>
            <a:off x="457200" y="1413000"/>
            <a:ext cx="8435880" cy="51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34800" indent="-334800">
              <a:lnSpc>
                <a:spcPct val="90000"/>
              </a:lnSpc>
              <a:spcBef>
                <a:spcPts val="18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Verdana"/>
              </a:rPr>
              <a:t>Skin</a:t>
            </a: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 diseases - alopecia,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soriasis</a:t>
            </a:r>
            <a:r>
              <a:rPr b="0" lang="sr-Latn-CS" sz="22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90000"/>
              </a:lnSpc>
              <a:spcBef>
                <a:spcPts val="18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Decubitus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90000"/>
              </a:lnSpc>
              <a:spcBef>
                <a:spcPts val="18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Verdana"/>
              </a:rPr>
              <a:t>Neurological </a:t>
            </a: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diseases - neuralgia, neuritis</a:t>
            </a:r>
            <a:r>
              <a:rPr b="0" lang="sr-Latn-CS" sz="2200" spc="-1" strike="noStrike">
                <a:solidFill>
                  <a:srgbClr val="000000"/>
                </a:solidFill>
                <a:latin typeface="Verdana"/>
              </a:rPr>
              <a:t>, cervical</a:t>
            </a: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Latn-CS" sz="2200" spc="-1" strike="noStrike">
                <a:solidFill>
                  <a:srgbClr val="000000"/>
                </a:solidFill>
                <a:latin typeface="Verdana"/>
              </a:rPr>
              <a:t>Sy, lumbar</a:t>
            </a: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Latn-CS" sz="2200" spc="-1" strike="noStrike">
                <a:solidFill>
                  <a:srgbClr val="000000"/>
                </a:solidFill>
                <a:latin typeface="Verdana"/>
              </a:rPr>
              <a:t>Sy..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90000"/>
              </a:lnSpc>
              <a:spcBef>
                <a:spcPts val="18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Verdana"/>
              </a:rPr>
              <a:t>Rheumatological </a:t>
            </a: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diseases – degenerative rheumatism,</a:t>
            </a:r>
            <a:r>
              <a:rPr b="0" lang="sr-Latn-CS" sz="2200" spc="-1" strike="noStrike">
                <a:solidFill>
                  <a:srgbClr val="000000"/>
                </a:solidFill>
                <a:latin typeface="Verdana"/>
              </a:rPr>
              <a:t> extraarticular rheumatism..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90000"/>
              </a:lnSpc>
              <a:spcBef>
                <a:spcPts val="18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Verdana"/>
              </a:rPr>
              <a:t>Orthopedics –</a:t>
            </a:r>
            <a:r>
              <a:rPr b="0" lang="de-DE" sz="2200" spc="-1" strike="noStrike">
                <a:solidFill>
                  <a:srgbClr val="000000"/>
                </a:solidFill>
                <a:latin typeface="Verdana"/>
              </a:rPr>
              <a:t> conditions after bone fractures, soft-tissue injuries</a:t>
            </a:r>
            <a:r>
              <a:rPr b="0" lang="sr-Latn-CS" sz="22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90000"/>
              </a:lnSpc>
              <a:spcBef>
                <a:spcPts val="18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Verdana"/>
              </a:rPr>
              <a:t>Gynecological </a:t>
            </a: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diseases – adnexitis, dysmenorrhea</a:t>
            </a:r>
            <a:r>
              <a:rPr b="0" lang="sr-Latn-CS" sz="22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90000"/>
              </a:lnSpc>
              <a:spcBef>
                <a:spcPts val="18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Verdana"/>
              </a:rPr>
              <a:t>Vascular </a:t>
            </a: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surgery – vascular-based torpid wounds,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ulcus cruris</a:t>
            </a:r>
            <a:r>
              <a:rPr b="0" lang="sr-Latn-CS" sz="22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90000"/>
              </a:lnSpc>
              <a:spcBef>
                <a:spcPts val="18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Verdana"/>
              </a:rPr>
              <a:t>Ophthalmology </a:t>
            </a: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- blepharitis, trachoma</a:t>
            </a:r>
            <a:r>
              <a:rPr b="0" lang="sr-Latn-CS" sz="22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DE" sz="2800" spc="-1" strike="noStrike">
                <a:solidFill>
                  <a:srgbClr val="f0000c"/>
                </a:solidFill>
                <a:latin typeface="Verdana"/>
              </a:rPr>
              <a:t>CONTRAINDICATION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7" name="Text Box 2"/>
          <p:cNvSpPr/>
          <p:nvPr/>
        </p:nvSpPr>
        <p:spPr>
          <a:xfrm>
            <a:off x="457200" y="1628640"/>
            <a:ext cx="814392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34800" indent="-334800">
              <a:lnSpc>
                <a:spcPct val="90000"/>
              </a:lnSpc>
              <a:spcBef>
                <a:spcPts val="11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ENERA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90000"/>
              </a:lnSpc>
              <a:spcBef>
                <a:spcPts val="11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ctive pulmonary tuberculosis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90000"/>
              </a:lnSpc>
              <a:spcBef>
                <a:spcPts val="11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Hyperthyroidism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90000"/>
              </a:lnSpc>
              <a:spcBef>
                <a:spcPts val="11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iabetes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90000"/>
              </a:lnSpc>
              <a:spcBef>
                <a:spcPts val="11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Psychiatric diseases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90000"/>
              </a:lnSpc>
              <a:spcBef>
                <a:spcPts val="11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dvanced cachexia </a:t>
            </a:r>
            <a:r>
              <a:rPr b="0" lang="sr-Latn-CS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90000"/>
              </a:lnSpc>
              <a:spcBef>
                <a:spcPts val="11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Verdana"/>
              </a:rPr>
              <a:t>Photogenic skin diseases - pellagra, lupus</a:t>
            </a:r>
            <a:r>
              <a:rPr b="0" lang="sr-Latn-CS" sz="2200" spc="-1" strike="noStrike">
                <a:solidFill>
                  <a:srgbClr val="000000"/>
                </a:solidFill>
                <a:latin typeface="Verdana"/>
              </a:rPr>
              <a:t>.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90000"/>
              </a:lnSpc>
              <a:spcBef>
                <a:spcPts val="11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oles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90000"/>
              </a:lnSpc>
              <a:spcBef>
                <a:spcPts val="11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Malignant skin tumor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90000"/>
              </a:lnSpc>
              <a:spcBef>
                <a:spcPts val="11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Verdana"/>
              </a:rPr>
              <a:t>Roentgen dermatitis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90000"/>
              </a:lnSpc>
              <a:spcBef>
                <a:spcPts val="11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Hypervitaminosis B1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Text Box 1"/>
          <p:cNvSpPr/>
          <p:nvPr/>
        </p:nvSpPr>
        <p:spPr>
          <a:xfrm>
            <a:off x="531720" y="2924280"/>
            <a:ext cx="8361360" cy="13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Verdana"/>
              </a:rPr>
              <a:t>INFRARED RAY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9" name="Line 2"/>
          <p:cNvSpPr/>
          <p:nvPr/>
        </p:nvSpPr>
        <p:spPr>
          <a:xfrm>
            <a:off x="531720" y="4292640"/>
            <a:ext cx="8143920" cy="1440"/>
          </a:xfrm>
          <a:prstGeom prst="line">
            <a:avLst/>
          </a:prstGeom>
          <a:ln cap="sq" w="38160">
            <a:solidFill>
              <a:srgbClr val="f0000c"/>
            </a:solidFill>
            <a:custDash>
              <a:ds d="100000" sp="1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20000"/>
              </a:lnSpc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DE" sz="2800" spc="-1" strike="noStrike">
                <a:solidFill>
                  <a:srgbClr val="f0000c"/>
                </a:solidFill>
                <a:latin typeface="Verdana"/>
              </a:rPr>
              <a:t>INFRARED RAY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1" name="Text Box 2"/>
          <p:cNvSpPr/>
          <p:nvPr/>
        </p:nvSpPr>
        <p:spPr>
          <a:xfrm>
            <a:off x="457200" y="3000240"/>
            <a:ext cx="8143920" cy="34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96840" indent="-338040">
              <a:lnSpc>
                <a:spcPct val="1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"/>
              <a:tabLst>
                <a:tab algn="l" pos="996840"/>
                <a:tab algn="l" pos="1454040"/>
                <a:tab algn="l" pos="1911240"/>
                <a:tab algn="l" pos="2368440"/>
                <a:tab algn="l" pos="2825640"/>
                <a:tab algn="l" pos="3282840"/>
                <a:tab algn="l" pos="3740040"/>
                <a:tab algn="l" pos="4197240"/>
                <a:tab algn="l" pos="4654440"/>
                <a:tab algn="l" pos="5111640"/>
                <a:tab algn="l" pos="5568840"/>
                <a:tab algn="l" pos="6026040"/>
                <a:tab algn="l" pos="6483240"/>
                <a:tab algn="l" pos="6940440"/>
                <a:tab algn="l" pos="7397640"/>
                <a:tab algn="l" pos="7854840"/>
                <a:tab algn="l" pos="8312040"/>
                <a:tab algn="l" pos="8769240"/>
                <a:tab algn="l" pos="9226440"/>
                <a:tab algn="l" pos="9683640"/>
                <a:tab algn="l" pos="1014084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Short IR rays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770 - 1500 nm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996840" indent="-338040">
              <a:lnSpc>
                <a:spcPct val="1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"/>
              <a:tabLst>
                <a:tab algn="l" pos="996840"/>
                <a:tab algn="l" pos="1454040"/>
                <a:tab algn="l" pos="1911240"/>
                <a:tab algn="l" pos="2368440"/>
                <a:tab algn="l" pos="2825640"/>
                <a:tab algn="l" pos="3282840"/>
                <a:tab algn="l" pos="3740040"/>
                <a:tab algn="l" pos="4197240"/>
                <a:tab algn="l" pos="4654440"/>
                <a:tab algn="l" pos="5111640"/>
                <a:tab algn="l" pos="5568840"/>
                <a:tab algn="l" pos="6026040"/>
                <a:tab algn="l" pos="6483240"/>
                <a:tab algn="l" pos="6940440"/>
                <a:tab algn="l" pos="7397640"/>
                <a:tab algn="l" pos="7854840"/>
                <a:tab algn="l" pos="8312040"/>
                <a:tab algn="l" pos="8769240"/>
                <a:tab algn="l" pos="9226440"/>
                <a:tab algn="l" pos="9683640"/>
                <a:tab algn="l" pos="1014084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Long IR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 ray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 1500 nm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996840" indent="-338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96840"/>
                <a:tab algn="l" pos="1454040"/>
                <a:tab algn="l" pos="1911240"/>
                <a:tab algn="l" pos="2368440"/>
                <a:tab algn="l" pos="2825640"/>
                <a:tab algn="l" pos="3282840"/>
                <a:tab algn="l" pos="3740040"/>
                <a:tab algn="l" pos="4197240"/>
                <a:tab algn="l" pos="4654440"/>
                <a:tab algn="l" pos="5111640"/>
                <a:tab algn="l" pos="5568840"/>
                <a:tab algn="l" pos="6026040"/>
                <a:tab algn="l" pos="6483240"/>
                <a:tab algn="l" pos="6940440"/>
                <a:tab algn="l" pos="7397640"/>
                <a:tab algn="l" pos="7854840"/>
                <a:tab algn="l" pos="8312040"/>
                <a:tab algn="l" pos="8769240"/>
                <a:tab algn="l" pos="9226440"/>
                <a:tab algn="l" pos="9683640"/>
                <a:tab algn="l" pos="1014084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996840" indent="-338040">
              <a:lnSpc>
                <a:spcPct val="1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96840"/>
                <a:tab algn="l" pos="1454040"/>
                <a:tab algn="l" pos="1911240"/>
                <a:tab algn="l" pos="2368440"/>
                <a:tab algn="l" pos="2825640"/>
                <a:tab algn="l" pos="3282840"/>
                <a:tab algn="l" pos="3740040"/>
                <a:tab algn="l" pos="4197240"/>
                <a:tab algn="l" pos="4654440"/>
                <a:tab algn="l" pos="5111640"/>
                <a:tab algn="l" pos="5568840"/>
                <a:tab algn="l" pos="6026040"/>
                <a:tab algn="l" pos="6483240"/>
                <a:tab algn="l" pos="6940440"/>
                <a:tab algn="l" pos="7397640"/>
                <a:tab algn="l" pos="7854840"/>
                <a:tab algn="l" pos="8312040"/>
                <a:tab algn="l" pos="8769240"/>
                <a:tab algn="l" pos="9226440"/>
                <a:tab algn="l" pos="9683640"/>
                <a:tab algn="l" pos="10140840"/>
                <a:tab algn="l" pos="10515600"/>
              </a:tabLst>
            </a:pPr>
            <a:r>
              <a:rPr b="1" lang="sr-Latn-CS" sz="2400" spc="-1" strike="noStrike">
                <a:solidFill>
                  <a:srgbClr val="ff0000"/>
                </a:solidFill>
                <a:latin typeface="Verdana"/>
              </a:rPr>
              <a:t>Penetration</a:t>
            </a:r>
            <a:r>
              <a:rPr b="1" lang="sr-CS" sz="2400" spc="-1" strike="noStrike">
                <a:solidFill>
                  <a:srgbClr val="ff0000"/>
                </a:solidFill>
                <a:latin typeface="Verdana"/>
              </a:rPr>
              <a:t>: </a:t>
            </a:r>
            <a:r>
              <a:rPr b="1" lang="sr-Latn-CS" sz="2400" spc="-1" strike="noStrike">
                <a:solidFill>
                  <a:srgbClr val="000000"/>
                </a:solidFill>
                <a:latin typeface="Verdana"/>
              </a:rPr>
              <a:t>0,5-10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412" name="Group 3"/>
          <p:cNvGrpSpPr/>
          <p:nvPr/>
        </p:nvGrpSpPr>
        <p:grpSpPr>
          <a:xfrm>
            <a:off x="538200" y="1773360"/>
            <a:ext cx="8058600" cy="1906560"/>
            <a:chOff x="538200" y="1773360"/>
            <a:chExt cx="8058600" cy="1906560"/>
          </a:xfrm>
        </p:grpSpPr>
        <p:cxnSp>
          <p:nvCxnSpPr>
            <p:cNvPr id="413" name="AutoShape 4"/>
            <p:cNvCxnSpPr/>
            <p:nvPr/>
          </p:nvCxnSpPr>
          <p:spPr>
            <a:xfrm>
              <a:off x="538200" y="2133360"/>
              <a:ext cx="8058960" cy="1080"/>
            </a:xfrm>
            <a:prstGeom prst="straightConnector1">
              <a:avLst/>
            </a:prstGeom>
            <a:ln cap="sq" w="12600">
              <a:solidFill>
                <a:srgbClr val="000000"/>
              </a:solidFill>
              <a:miter/>
              <a:headEnd len="med" type="triangle" w="lg"/>
              <a:tailEnd len="med" type="triangle" w="lg"/>
            </a:ln>
          </p:spPr>
        </p:cxnSp>
        <p:cxnSp>
          <p:nvCxnSpPr>
            <p:cNvPr id="414" name="AutoShape 5"/>
            <p:cNvCxnSpPr/>
            <p:nvPr/>
          </p:nvCxnSpPr>
          <p:spPr>
            <a:xfrm>
              <a:off x="538200" y="2926080"/>
              <a:ext cx="8058960" cy="1080"/>
            </a:xfrm>
            <a:prstGeom prst="straightConnector1">
              <a:avLst/>
            </a:prstGeom>
            <a:ln cap="sq" w="12600">
              <a:solidFill>
                <a:srgbClr val="000000"/>
              </a:solidFill>
              <a:miter/>
              <a:headEnd len="med" type="triangle" w="lg"/>
              <a:tailEnd len="med" type="triangle" w="lg"/>
            </a:ln>
          </p:spPr>
        </p:cxnSp>
        <p:sp>
          <p:nvSpPr>
            <p:cNvPr id="415" name="Line 6"/>
            <p:cNvSpPr/>
            <p:nvPr/>
          </p:nvSpPr>
          <p:spPr>
            <a:xfrm>
              <a:off x="2146320" y="2133720"/>
              <a:ext cx="0" cy="78444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spcAft>
                  <a:spcPts val="45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16" name="Line 7"/>
            <p:cNvSpPr/>
            <p:nvPr/>
          </p:nvSpPr>
          <p:spPr>
            <a:xfrm>
              <a:off x="3743280" y="2133720"/>
              <a:ext cx="0" cy="78444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spcAft>
                  <a:spcPts val="45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17" name="Line 8"/>
            <p:cNvSpPr/>
            <p:nvPr/>
          </p:nvSpPr>
          <p:spPr>
            <a:xfrm>
              <a:off x="5337000" y="2133720"/>
              <a:ext cx="0" cy="78444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spcAft>
                  <a:spcPts val="45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18" name="Line 9"/>
            <p:cNvSpPr/>
            <p:nvPr/>
          </p:nvSpPr>
          <p:spPr>
            <a:xfrm>
              <a:off x="6935760" y="2133720"/>
              <a:ext cx="0" cy="78444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spcAft>
                  <a:spcPts val="45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19" name="Text Box 10"/>
            <p:cNvSpPr/>
            <p:nvPr/>
          </p:nvSpPr>
          <p:spPr>
            <a:xfrm>
              <a:off x="3985920" y="1773360"/>
              <a:ext cx="1387800" cy="33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spcAft>
                  <a:spcPts val="326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Verdana"/>
                </a:rPr>
                <a:t>1500 - 3000 nm</a:t>
              </a:r>
              <a:endParaRPr b="0" lang="en-US" sz="13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20" name="Text Box 11"/>
            <p:cNvSpPr/>
            <p:nvPr/>
          </p:nvSpPr>
          <p:spPr>
            <a:xfrm>
              <a:off x="5712480" y="1785960"/>
              <a:ext cx="1008000" cy="33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spcAft>
                  <a:spcPts val="326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1" lang="en-US" sz="1300" spc="-1" strike="noStrike">
                  <a:solidFill>
                    <a:srgbClr val="000000"/>
                  </a:solidFill>
                  <a:latin typeface="Verdana"/>
                </a:rPr>
                <a:t> 3000 nm</a:t>
              </a:r>
              <a:endParaRPr b="0" lang="en-US" sz="13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21" name="Text Box 12"/>
            <p:cNvSpPr/>
            <p:nvPr/>
          </p:nvSpPr>
          <p:spPr>
            <a:xfrm>
              <a:off x="2390400" y="1773360"/>
              <a:ext cx="1293120" cy="33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spcAft>
                  <a:spcPts val="326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Verdana"/>
                </a:rPr>
                <a:t>770 - 1500 nm</a:t>
              </a:r>
              <a:endParaRPr b="0" lang="en-US" sz="13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22" name="Text Box 13"/>
            <p:cNvSpPr/>
            <p:nvPr/>
          </p:nvSpPr>
          <p:spPr>
            <a:xfrm>
              <a:off x="577440" y="3069360"/>
              <a:ext cx="767520" cy="61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spcAft>
                  <a:spcPts val="326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Verdana"/>
                </a:rPr>
                <a:t>VISIBLE</a:t>
              </a:r>
              <a:endParaRPr b="0" lang="en-US" sz="1300" spc="-1" strike="noStrike">
                <a:solidFill>
                  <a:srgbClr val="ffffff"/>
                </a:solidFill>
                <a:latin typeface="Verdana"/>
              </a:endParaRPr>
            </a:p>
            <a:p>
              <a:pPr>
                <a:lnSpc>
                  <a:spcPct val="120000"/>
                </a:lnSpc>
                <a:spcAft>
                  <a:spcPts val="326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Verdana"/>
                </a:rPr>
                <a:t>LIGHT</a:t>
              </a:r>
              <a:endParaRPr b="0" lang="en-US" sz="13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23" name="Text Box 14"/>
            <p:cNvSpPr/>
            <p:nvPr/>
          </p:nvSpPr>
          <p:spPr>
            <a:xfrm>
              <a:off x="7283880" y="3069360"/>
              <a:ext cx="1258200" cy="33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spcAft>
                  <a:spcPts val="326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Verdana"/>
                </a:rPr>
                <a:t>MICROWAVES</a:t>
              </a:r>
              <a:endParaRPr b="0" lang="en-US" sz="13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24" name="Text Box 15"/>
            <p:cNvSpPr/>
            <p:nvPr/>
          </p:nvSpPr>
          <p:spPr>
            <a:xfrm>
              <a:off x="4229640" y="2364120"/>
              <a:ext cx="517680" cy="33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spcAft>
                  <a:spcPts val="326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Verdana"/>
                </a:rPr>
                <a:t>IR-B</a:t>
              </a:r>
              <a:endParaRPr b="0" lang="en-US" sz="13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25" name="Text Box 16"/>
            <p:cNvSpPr/>
            <p:nvPr/>
          </p:nvSpPr>
          <p:spPr>
            <a:xfrm>
              <a:off x="5910840" y="2364120"/>
              <a:ext cx="511560" cy="33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spcAft>
                  <a:spcPts val="326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Verdana"/>
                </a:rPr>
                <a:t>IR-C</a:t>
              </a:r>
              <a:endParaRPr b="0" lang="en-US" sz="13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26" name="Text Box 17"/>
            <p:cNvSpPr/>
            <p:nvPr/>
          </p:nvSpPr>
          <p:spPr>
            <a:xfrm>
              <a:off x="2664720" y="2364120"/>
              <a:ext cx="520560" cy="33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spcAft>
                  <a:spcPts val="326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Verdana"/>
                </a:rPr>
                <a:t>IR-А</a:t>
              </a:r>
              <a:endParaRPr b="0" lang="en-US" sz="13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DE" sz="2800" spc="-1" strike="noStrike">
                <a:solidFill>
                  <a:srgbClr val="f0000c"/>
                </a:solidFill>
                <a:latin typeface="Verdana"/>
              </a:rPr>
              <a:t>SOURCES OF</a:t>
            </a:r>
            <a:r>
              <a:rPr b="1" lang="en-US" sz="2800" spc="-1" strike="noStrike">
                <a:solidFill>
                  <a:srgbClr val="f0000c"/>
                </a:solidFill>
                <a:latin typeface="Verdana"/>
              </a:rPr>
              <a:t> IR RADIATI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8" name="Text Box 2"/>
          <p:cNvSpPr/>
          <p:nvPr/>
        </p:nvSpPr>
        <p:spPr>
          <a:xfrm>
            <a:off x="457200" y="1484280"/>
            <a:ext cx="814392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34800" indent="-334800">
              <a:lnSpc>
                <a:spcPct val="1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Natural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 source is sunlight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Artificial 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sources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35120" indent="-277920">
              <a:lnSpc>
                <a:spcPct val="100000"/>
              </a:lnSpc>
              <a:spcBef>
                <a:spcPts val="1199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Verdana"/>
                <a:ea typeface="Microsoft YaHei"/>
              </a:rPr>
              <a:t>„</a:t>
            </a:r>
            <a:r>
              <a:rPr b="0" lang="de-DE" sz="2200" spc="-1" strike="noStrike">
                <a:solidFill>
                  <a:srgbClr val="000000"/>
                </a:solidFill>
                <a:latin typeface="Verdana"/>
                <a:ea typeface="Microsoft YaHei"/>
              </a:rPr>
              <a:t>Sollux"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Microsoft YaHei"/>
              </a:rPr>
              <a:t> lamp</a:t>
            </a:r>
            <a:r>
              <a:rPr b="0" lang="de-DE" sz="22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735120" indent="-277920">
              <a:lnSpc>
                <a:spcPct val="100000"/>
              </a:lnSpc>
              <a:spcBef>
                <a:spcPts val="1199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Verdana"/>
                <a:ea typeface="Microsoft YaHei"/>
              </a:rPr>
              <a:t>Heater reflector 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  <a:ea typeface="Microsoft YaHei"/>
              </a:rPr>
              <a:t>(emission of long waves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35120" indent="-277920">
              <a:lnSpc>
                <a:spcPct val="100000"/>
              </a:lnSpc>
              <a:spcBef>
                <a:spcPts val="1199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Verdana"/>
                <a:ea typeface="Microsoft YaHei"/>
              </a:rPr>
              <a:t>Light baths 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  <a:ea typeface="Microsoft YaHei"/>
              </a:rPr>
              <a:t>(full, semi, partial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DE" sz="2800" spc="-1" strike="noStrike">
                <a:solidFill>
                  <a:srgbClr val="f0000c"/>
                </a:solidFill>
                <a:latin typeface="Verdana"/>
              </a:rPr>
              <a:t>ARTIFICIAL SOURCES OF </a:t>
            </a:r>
            <a:r>
              <a:rPr b="1" lang="en-US" sz="2800" spc="-1" strike="noStrike">
                <a:solidFill>
                  <a:srgbClr val="f0000c"/>
                </a:solidFill>
                <a:latin typeface="Verdana"/>
              </a:rPr>
              <a:t>IR RADIATI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30" name="Picture 2" descr=""/>
          <p:cNvPicPr/>
          <p:nvPr/>
        </p:nvPicPr>
        <p:blipFill>
          <a:blip r:embed="rId1"/>
          <a:stretch/>
        </p:blipFill>
        <p:spPr>
          <a:xfrm>
            <a:off x="3924360" y="1773360"/>
            <a:ext cx="3600360" cy="475128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3" descr=""/>
          <p:cNvPicPr/>
          <p:nvPr/>
        </p:nvPicPr>
        <p:blipFill>
          <a:blip r:embed="rId2"/>
          <a:stretch/>
        </p:blipFill>
        <p:spPr>
          <a:xfrm>
            <a:off x="755640" y="2276640"/>
            <a:ext cx="3384720" cy="331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DE" sz="2800" spc="-1" strike="noStrike">
                <a:solidFill>
                  <a:srgbClr val="f0000c"/>
                </a:solidFill>
                <a:latin typeface="Verdana"/>
              </a:rPr>
              <a:t>TYPES OF PHOTOTHERAP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" name="Text Box 2"/>
          <p:cNvSpPr/>
          <p:nvPr/>
        </p:nvSpPr>
        <p:spPr>
          <a:xfrm>
            <a:off x="457200" y="1484280"/>
            <a:ext cx="814392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34800" indent="-334800">
              <a:lnSpc>
                <a:spcPct val="100000"/>
              </a:lnSpc>
              <a:spcBef>
                <a:spcPts val="11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Heliotherapy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– the use of natural sunligh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11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hromotherap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 action of certain colors from the visible spectrum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11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ltraviolet rays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1" lang="sr-Latn-CS" sz="2400" spc="-1" strike="noStrike">
                <a:solidFill>
                  <a:srgbClr val="000000"/>
                </a:solidFill>
                <a:latin typeface="Verdana"/>
              </a:rPr>
              <a:t>UV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ays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11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frared rays 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1" lang="sr-Latn-CS" sz="2400" spc="-1" strike="noStrike">
                <a:solidFill>
                  <a:srgbClr val="000000"/>
                </a:solidFill>
                <a:latin typeface="Verdana"/>
              </a:rPr>
              <a:t>IR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ays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11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aserotherapy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LASER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- Light Amplification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by Stimulated Emission of Radiation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DE" sz="2800" spc="-1" strike="noStrike">
                <a:solidFill>
                  <a:srgbClr val="f0000c"/>
                </a:solidFill>
                <a:latin typeface="Verdana"/>
              </a:rPr>
              <a:t>PHYSIOLOGICAL EFFECT OF IR RADIATION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3" name="Text Box 2"/>
          <p:cNvSpPr/>
          <p:nvPr/>
        </p:nvSpPr>
        <p:spPr>
          <a:xfrm>
            <a:off x="457200" y="1484280"/>
            <a:ext cx="814392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34800" indent="-334800">
              <a:lnSpc>
                <a:spcPct val="1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Е of the photon of IR ray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molecular excitation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HEA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ncrease of the local tissue tº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Latn-CS" sz="2400" spc="-1" strike="noStrike">
                <a:solidFill>
                  <a:srgbClr val="f0000c"/>
                </a:solidFill>
                <a:latin typeface="Verdana"/>
              </a:rPr>
              <a:t>Local reaction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35120" indent="-277920">
              <a:lnSpc>
                <a:spcPct val="100000"/>
              </a:lnSpc>
              <a:spcBef>
                <a:spcPts val="400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Verdana"/>
                <a:ea typeface="Microsoft YaHei"/>
              </a:rPr>
              <a:t>erythema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Microsoft YaHei"/>
              </a:rPr>
              <a:t>(without latent period</a:t>
            </a:r>
            <a:r>
              <a:rPr b="0" lang="sr-Latn-CS" sz="1600" spc="-1" strike="noStrike">
                <a:solidFill>
                  <a:srgbClr val="000000"/>
                </a:solidFill>
                <a:latin typeface="Verdana"/>
                <a:ea typeface="Microsoft YaHei"/>
              </a:rPr>
              <a:t>,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Microsoft YaHei"/>
              </a:rPr>
              <a:t> thermal, inhomogenous</a:t>
            </a:r>
            <a:r>
              <a:rPr b="0" lang="sr-Latn-CS" sz="1600" spc="-1" strike="noStrike">
                <a:solidFill>
                  <a:srgbClr val="000000"/>
                </a:solidFill>
                <a:latin typeface="Verdana"/>
                <a:ea typeface="Microsoft YaHei"/>
              </a:rPr>
              <a:t>,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Microsoft YaHei"/>
              </a:rPr>
              <a:t> unclearly demarcated, more intense along the capillaries, short-lasting, lost completely);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735120" indent="-277920">
              <a:lnSpc>
                <a:spcPct val="1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Verdana"/>
                <a:ea typeface="Microsoft YaHei"/>
              </a:rPr>
              <a:t>pigmentat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0000c"/>
                </a:solidFill>
                <a:latin typeface="Verdana"/>
              </a:rPr>
              <a:t>PHYSIOLOGICAL EFFECT OF IR RADIATI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5" name="Text Box 2"/>
          <p:cNvSpPr/>
          <p:nvPr/>
        </p:nvSpPr>
        <p:spPr>
          <a:xfrm>
            <a:off x="457200" y="1484280"/>
            <a:ext cx="814392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4800" indent="-334800">
              <a:lnSpc>
                <a:spcPct val="1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0000c"/>
                </a:solidFill>
                <a:latin typeface="Verdana"/>
              </a:rPr>
              <a:t>Reflexive reaction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35120" indent="-277920">
              <a:lnSpc>
                <a:spcPct val="100000"/>
              </a:lnSpc>
              <a:spcBef>
                <a:spcPts val="499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icrosoft YaHei"/>
              </a:rPr>
              <a:t>Vasodilation involving also deeper tissues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Microsoft YaHei"/>
              </a:rPr>
              <a:t>(via cutivisceral Rf, via Head zones)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35120" indent="-277920">
              <a:lnSpc>
                <a:spcPct val="1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icrosoft YaHei"/>
              </a:rPr>
              <a:t>Consensual react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0000c"/>
                </a:solidFill>
                <a:latin typeface="Verdana"/>
              </a:rPr>
              <a:t>General reaction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f the organism: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35120" indent="-277920">
              <a:lnSpc>
                <a:spcPct val="1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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icrosoft YaHei"/>
              </a:rPr>
              <a:t>Btº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35120" indent="-277920">
              <a:lnSpc>
                <a:spcPct val="1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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icrosoft YaHei"/>
              </a:rPr>
              <a:t>sweating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35120" indent="-277920">
              <a:lnSpc>
                <a:spcPct val="1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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icrosoft YaHei"/>
              </a:rPr>
              <a:t>breathing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35120" indent="-277920">
              <a:lnSpc>
                <a:spcPct val="1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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icrosoft YaHei"/>
              </a:rPr>
              <a:t>heart rat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35120" indent="-277920">
              <a:lnSpc>
                <a:spcPct val="1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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icrosoft YaHei"/>
              </a:rPr>
              <a:t>ТА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0000c"/>
                </a:solidFill>
                <a:latin typeface="Verdana"/>
              </a:rPr>
              <a:t>THERAPEUTIC EFFECT OF IR RADIATI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7" name="Text Box 2"/>
          <p:cNvSpPr/>
          <p:nvPr/>
        </p:nvSpPr>
        <p:spPr>
          <a:xfrm>
            <a:off x="457200" y="1484280"/>
            <a:ext cx="814392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74880" indent="-335160">
              <a:lnSpc>
                <a:spcPct val="2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74880"/>
                <a:tab algn="l" pos="1432080"/>
                <a:tab algn="l" pos="1889280"/>
                <a:tab algn="l" pos="2346480"/>
                <a:tab algn="l" pos="2803680"/>
                <a:tab algn="l" pos="3260880"/>
                <a:tab algn="l" pos="3718080"/>
                <a:tab algn="l" pos="4175280"/>
                <a:tab algn="l" pos="4632480"/>
                <a:tab algn="l" pos="5089680"/>
                <a:tab algn="l" pos="5546880"/>
                <a:tab algn="l" pos="6004080"/>
                <a:tab algn="l" pos="6461280"/>
                <a:tab algn="l" pos="6918480"/>
                <a:tab algn="l" pos="7375680"/>
                <a:tab algn="l" pos="7832880"/>
                <a:tab algn="l" pos="8290080"/>
                <a:tab algn="l" pos="8747280"/>
                <a:tab algn="l" pos="9204480"/>
                <a:tab algn="l" pos="9661680"/>
                <a:tab algn="l" pos="10118880"/>
                <a:tab algn="l" pos="105156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Analgesi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974880" indent="-335160">
              <a:lnSpc>
                <a:spcPct val="2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74880"/>
                <a:tab algn="l" pos="1432080"/>
                <a:tab algn="l" pos="1889280"/>
                <a:tab algn="l" pos="2346480"/>
                <a:tab algn="l" pos="2803680"/>
                <a:tab algn="l" pos="3260880"/>
                <a:tab algn="l" pos="3718080"/>
                <a:tab algn="l" pos="4175280"/>
                <a:tab algn="l" pos="4632480"/>
                <a:tab algn="l" pos="5089680"/>
                <a:tab algn="l" pos="5546880"/>
                <a:tab algn="l" pos="6004080"/>
                <a:tab algn="l" pos="6461280"/>
                <a:tab algn="l" pos="6918480"/>
                <a:tab algn="l" pos="7375680"/>
                <a:tab algn="l" pos="7832880"/>
                <a:tab algn="l" pos="8290080"/>
                <a:tab algn="l" pos="8747280"/>
                <a:tab algn="l" pos="9204480"/>
                <a:tab algn="l" pos="9661680"/>
                <a:tab algn="l" pos="1011888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tiedematous effec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974880" indent="-335160">
              <a:lnSpc>
                <a:spcPct val="2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74880"/>
                <a:tab algn="l" pos="1432080"/>
                <a:tab algn="l" pos="1889280"/>
                <a:tab algn="l" pos="2346480"/>
                <a:tab algn="l" pos="2803680"/>
                <a:tab algn="l" pos="3260880"/>
                <a:tab algn="l" pos="3718080"/>
                <a:tab algn="l" pos="4175280"/>
                <a:tab algn="l" pos="4632480"/>
                <a:tab algn="l" pos="5089680"/>
                <a:tab algn="l" pos="5546880"/>
                <a:tab algn="l" pos="6004080"/>
                <a:tab algn="l" pos="6461280"/>
                <a:tab algn="l" pos="6918480"/>
                <a:tab algn="l" pos="7375680"/>
                <a:tab algn="l" pos="7832880"/>
                <a:tab algn="l" pos="8290080"/>
                <a:tab algn="l" pos="8747280"/>
                <a:tab algn="l" pos="9204480"/>
                <a:tab algn="l" pos="9661680"/>
                <a:tab algn="l" pos="10118880"/>
                <a:tab algn="l" pos="105156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Spasmolitic effec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974880" indent="-335160">
              <a:lnSpc>
                <a:spcPct val="2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74880"/>
                <a:tab algn="l" pos="1432080"/>
                <a:tab algn="l" pos="1889280"/>
                <a:tab algn="l" pos="2346480"/>
                <a:tab algn="l" pos="2803680"/>
                <a:tab algn="l" pos="3260880"/>
                <a:tab algn="l" pos="3718080"/>
                <a:tab algn="l" pos="4175280"/>
                <a:tab algn="l" pos="4632480"/>
                <a:tab algn="l" pos="5089680"/>
                <a:tab algn="l" pos="5546880"/>
                <a:tab algn="l" pos="6004080"/>
                <a:tab algn="l" pos="6461280"/>
                <a:tab algn="l" pos="6918480"/>
                <a:tab algn="l" pos="7375680"/>
                <a:tab algn="l" pos="7832880"/>
                <a:tab algn="l" pos="8290080"/>
                <a:tab algn="l" pos="8747280"/>
                <a:tab algn="l" pos="9204480"/>
                <a:tab algn="l" pos="9661680"/>
                <a:tab algn="l" pos="1011888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ophic (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granulatio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974880" indent="-3351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74880"/>
                <a:tab algn="l" pos="1432080"/>
                <a:tab algn="l" pos="1889280"/>
                <a:tab algn="l" pos="2346480"/>
                <a:tab algn="l" pos="2803680"/>
                <a:tab algn="l" pos="3260880"/>
                <a:tab algn="l" pos="3718080"/>
                <a:tab algn="l" pos="4175280"/>
                <a:tab algn="l" pos="4632480"/>
                <a:tab algn="l" pos="5089680"/>
                <a:tab algn="l" pos="5546880"/>
                <a:tab algn="l" pos="6004080"/>
                <a:tab algn="l" pos="6461280"/>
                <a:tab algn="l" pos="6918480"/>
                <a:tab algn="l" pos="7375680"/>
                <a:tab algn="l" pos="7832880"/>
                <a:tab algn="l" pos="8290080"/>
                <a:tab algn="l" pos="8747280"/>
                <a:tab algn="l" pos="9204480"/>
                <a:tab algn="l" pos="9661680"/>
                <a:tab algn="l" pos="1011888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DE" sz="2800" spc="-1" strike="noStrike">
                <a:solidFill>
                  <a:srgbClr val="f0000c"/>
                </a:solidFill>
                <a:latin typeface="Verdana"/>
              </a:rPr>
              <a:t>SYNERGISM AND ANTAGONISM OF IR AND UV RAY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9" name="Text Box 2"/>
          <p:cNvSpPr/>
          <p:nvPr/>
        </p:nvSpPr>
        <p:spPr>
          <a:xfrm>
            <a:off x="457200" y="1484280"/>
            <a:ext cx="814392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34800" indent="-334800">
              <a:lnSpc>
                <a:spcPct val="1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ynergis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- IR rays applied simulateneously or before UV rays </a:t>
            </a:r>
            <a:r>
              <a:rPr b="1" lang="en-US" sz="2400" spc="-1" strike="noStrike">
                <a:solidFill>
                  <a:srgbClr val="f0000c"/>
                </a:solidFill>
                <a:latin typeface="Verdana"/>
              </a:rPr>
              <a:t>increase the effect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f UV ray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ntagonis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IR rays applied after 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V rays </a:t>
            </a:r>
            <a:r>
              <a:rPr b="1" lang="en-US" sz="2400" spc="-1" strike="noStrike">
                <a:solidFill>
                  <a:srgbClr val="f0000c"/>
                </a:solidFill>
                <a:latin typeface="Verdana"/>
              </a:rPr>
              <a:t>decrease the effect of UV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ray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R radiation from the lamp is the most efficient method of burn prevention, if UV radiation is overdosed (if used before the development of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rythema!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DE" sz="2800" spc="-1" strike="noStrike">
                <a:solidFill>
                  <a:srgbClr val="f0000c"/>
                </a:solidFill>
                <a:latin typeface="Verdana"/>
              </a:rPr>
              <a:t>APPLICATION TECHNIQUE  AND DOSING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1" name="Text Box 2"/>
          <p:cNvSpPr/>
          <p:nvPr/>
        </p:nvSpPr>
        <p:spPr>
          <a:xfrm>
            <a:off x="457200" y="1484280"/>
            <a:ext cx="814392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4800" indent="-334800">
              <a:lnSpc>
                <a:spcPct val="1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Independent (rarely) or introductory (more common) procedur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Epidermal defects are not a contraindicat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The patient wears protective glasses (cataract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Dosing </a:t>
            </a:r>
            <a:r>
              <a:rPr b="1" lang="de-DE" sz="2400" spc="-1" strike="noStrike">
                <a:solidFill>
                  <a:srgbClr val="ff0000"/>
                </a:solidFill>
                <a:latin typeface="Verdana"/>
              </a:rPr>
              <a:t>according to subjective feeling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Exposure time 5-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0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 (20)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 min,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series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 10-15 days,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 pause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 10 day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Text Box 1"/>
          <p:cNvSpPr/>
          <p:nvPr/>
        </p:nvSpPr>
        <p:spPr>
          <a:xfrm>
            <a:off x="274680" y="457200"/>
            <a:ext cx="8732880" cy="9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DE" sz="2800" spc="-1" strike="noStrike">
                <a:solidFill>
                  <a:srgbClr val="f0000c"/>
                </a:solidFill>
                <a:latin typeface="Verdana"/>
              </a:rPr>
              <a:t>APPLICATION TECHNIQUE AN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DE" sz="2800" spc="-1" strike="noStrike">
                <a:solidFill>
                  <a:srgbClr val="f0000c"/>
                </a:solidFill>
                <a:latin typeface="Verdana"/>
              </a:rPr>
              <a:t>DOSING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3" name="Text Box 2"/>
          <p:cNvSpPr/>
          <p:nvPr/>
        </p:nvSpPr>
        <p:spPr>
          <a:xfrm>
            <a:off x="457200" y="1584360"/>
            <a:ext cx="8362800" cy="472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12760" indent="-2127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212760"/>
                <a:tab algn="l" pos="669960"/>
                <a:tab algn="l" pos="1127160"/>
                <a:tab algn="l" pos="1584360"/>
                <a:tab algn="l" pos="2041560"/>
                <a:tab algn="l" pos="2498760"/>
                <a:tab algn="l" pos="2955960"/>
                <a:tab algn="l" pos="3413160"/>
                <a:tab algn="l" pos="3870360"/>
                <a:tab algn="l" pos="4327560"/>
                <a:tab algn="l" pos="4784760"/>
                <a:tab algn="l" pos="5241960"/>
                <a:tab algn="l" pos="5699160"/>
                <a:tab algn="l" pos="6156360"/>
                <a:tab algn="l" pos="6613560"/>
                <a:tab algn="l" pos="7070760"/>
                <a:tab algn="l" pos="7527960"/>
                <a:tab algn="l" pos="7985160"/>
                <a:tab algn="l" pos="8442360"/>
                <a:tab algn="l" pos="8899560"/>
                <a:tab algn="l" pos="9356760"/>
                <a:tab algn="l" pos="9601200"/>
                <a:tab algn="l" pos="10058400"/>
                <a:tab algn="l" pos="105156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DOSE  </a:t>
            </a:r>
            <a:r>
              <a:rPr b="0" lang="de-DE" sz="1800" spc="-1" strike="noStrike" u="sng">
                <a:solidFill>
                  <a:srgbClr val="000000"/>
                </a:solidFill>
                <a:uFillTx/>
                <a:latin typeface="Verdana"/>
              </a:rPr>
              <a:t>radiation </a:t>
            </a:r>
            <a:r>
              <a:rPr b="1" lang="de-DE" sz="1800" spc="-1" strike="noStrike" u="sng">
                <a:solidFill>
                  <a:srgbClr val="ff0000"/>
                </a:solidFill>
                <a:uFillTx/>
                <a:latin typeface="Verdana"/>
              </a:rPr>
              <a:t>intensity</a:t>
            </a:r>
            <a:r>
              <a:rPr b="0" lang="de-DE" sz="1800" spc="-1" strike="noStrike" u="sng">
                <a:solidFill>
                  <a:srgbClr val="000000"/>
                </a:solidFill>
                <a:uFillTx/>
                <a:latin typeface="Verdana"/>
              </a:rPr>
              <a:t> x </a:t>
            </a:r>
            <a:r>
              <a:rPr b="1" lang="de-DE" sz="1800" spc="-1" strike="noStrike" u="sng">
                <a:solidFill>
                  <a:srgbClr val="000000"/>
                </a:solidFill>
                <a:uFillTx/>
                <a:latin typeface="Verdana"/>
              </a:rPr>
              <a:t>cos</a:t>
            </a:r>
            <a:r>
              <a:rPr b="0" lang="de-DE" sz="1800" spc="-1" strike="noStrike" u="sng">
                <a:solidFill>
                  <a:srgbClr val="000000"/>
                </a:solidFill>
                <a:uFillTx/>
                <a:latin typeface="Verdana"/>
              </a:rPr>
              <a:t> of the angle of incidence x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12760" indent="-2127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12760"/>
                <a:tab algn="l" pos="669960"/>
                <a:tab algn="l" pos="1127160"/>
                <a:tab algn="l" pos="1584360"/>
                <a:tab algn="l" pos="2041560"/>
                <a:tab algn="l" pos="2498760"/>
                <a:tab algn="l" pos="2955960"/>
                <a:tab algn="l" pos="3413160"/>
                <a:tab algn="l" pos="3870360"/>
                <a:tab algn="l" pos="4327560"/>
                <a:tab algn="l" pos="4784760"/>
                <a:tab algn="l" pos="5241960"/>
                <a:tab algn="l" pos="5699160"/>
                <a:tab algn="l" pos="6156360"/>
                <a:tab algn="l" pos="6613560"/>
                <a:tab algn="l" pos="7070760"/>
                <a:tab algn="l" pos="7527960"/>
                <a:tab algn="l" pos="7985160"/>
                <a:tab algn="l" pos="8442360"/>
                <a:tab algn="l" pos="8899560"/>
                <a:tab algn="l" pos="9356760"/>
                <a:tab algn="l" pos="9601200"/>
                <a:tab algn="l" pos="10058400"/>
                <a:tab algn="l" pos="10515600"/>
              </a:tabLst>
            </a:pPr>
            <a:r>
              <a:rPr b="1" lang="sr-Latn-R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1" lang="sr-Latn-R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1" lang="sr-Latn-R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1" lang="sr-Latn-R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1" lang="de-DE" sz="1800" spc="-1" strike="noStrike" u="sng">
                <a:solidFill>
                  <a:srgbClr val="ff0000"/>
                </a:solidFill>
                <a:uFillTx/>
                <a:latin typeface="Verdana"/>
              </a:rPr>
              <a:t>duration time</a:t>
            </a:r>
            <a:r>
              <a:rPr b="1" lang="sr-Latn-RS" sz="1800" spc="-1" strike="noStrike" u="sng">
                <a:solidFill>
                  <a:srgbClr val="ff0000"/>
                </a:solidFill>
                <a:uFillTx/>
                <a:latin typeface="Verdana"/>
              </a:rPr>
              <a:t> </a:t>
            </a:r>
            <a:r>
              <a:rPr b="1" lang="de-DE" sz="1800" spc="-1" strike="noStrike" u="sng">
                <a:solidFill>
                  <a:srgbClr val="ff0000"/>
                </a:solidFill>
                <a:uFillTx/>
                <a:latin typeface="Verdana"/>
              </a:rPr>
              <a:t>distance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 from the source</a:t>
            </a:r>
            <a:r>
              <a:rPr b="0" lang="de-DE" sz="1800" spc="-1" strike="noStrike" baseline="33000">
                <a:solidFill>
                  <a:srgbClr val="000000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12760" indent="-21276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12760"/>
                <a:tab algn="l" pos="669960"/>
                <a:tab algn="l" pos="1127160"/>
                <a:tab algn="l" pos="1584360"/>
                <a:tab algn="l" pos="2041560"/>
                <a:tab algn="l" pos="2498760"/>
                <a:tab algn="l" pos="2955960"/>
                <a:tab algn="l" pos="3413160"/>
                <a:tab algn="l" pos="3870360"/>
                <a:tab algn="l" pos="4327560"/>
                <a:tab algn="l" pos="4784760"/>
                <a:tab algn="l" pos="5241960"/>
                <a:tab algn="l" pos="5699160"/>
                <a:tab algn="l" pos="6156360"/>
                <a:tab algn="l" pos="6613560"/>
                <a:tab algn="l" pos="7070760"/>
                <a:tab algn="l" pos="7527960"/>
                <a:tab algn="l" pos="7985160"/>
                <a:tab algn="l" pos="8442360"/>
                <a:tab algn="l" pos="8899560"/>
                <a:tab algn="l" pos="935676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212760" indent="-2127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212760"/>
                <a:tab algn="l" pos="669960"/>
                <a:tab algn="l" pos="1127160"/>
                <a:tab algn="l" pos="1584360"/>
                <a:tab algn="l" pos="2041560"/>
                <a:tab algn="l" pos="2498760"/>
                <a:tab algn="l" pos="2955960"/>
                <a:tab algn="l" pos="3413160"/>
                <a:tab algn="l" pos="3870360"/>
                <a:tab algn="l" pos="4327560"/>
                <a:tab algn="l" pos="4784760"/>
                <a:tab algn="l" pos="5241960"/>
                <a:tab algn="l" pos="5699160"/>
                <a:tab algn="l" pos="6156360"/>
                <a:tab algn="l" pos="6613560"/>
                <a:tab algn="l" pos="7070760"/>
                <a:tab algn="l" pos="7527960"/>
                <a:tab algn="l" pos="7985160"/>
                <a:tab algn="l" pos="8442360"/>
                <a:tab algn="l" pos="8899560"/>
                <a:tab algn="l" pos="9356760"/>
                <a:tab algn="l" pos="9601200"/>
                <a:tab algn="l" pos="10058400"/>
                <a:tab algn="l" pos="105156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LOCAL</a:t>
            </a: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the source is </a:t>
            </a:r>
            <a:r>
              <a:rPr b="1" lang="de-DE" sz="1800" spc="-1" strike="noStrike">
                <a:solidFill>
                  <a:srgbClr val="000000"/>
                </a:solidFill>
                <a:latin typeface="Verdana"/>
              </a:rPr>
              <a:t>at a smaller distance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from the body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12760" indent="-2127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12760"/>
                <a:tab algn="l" pos="669960"/>
                <a:tab algn="l" pos="1127160"/>
                <a:tab algn="l" pos="1584360"/>
                <a:tab algn="l" pos="2041560"/>
                <a:tab algn="l" pos="2498760"/>
                <a:tab algn="l" pos="2955960"/>
                <a:tab algn="l" pos="3413160"/>
                <a:tab algn="l" pos="3870360"/>
                <a:tab algn="l" pos="4327560"/>
                <a:tab algn="l" pos="4784760"/>
                <a:tab algn="l" pos="5241960"/>
                <a:tab algn="l" pos="5699160"/>
                <a:tab algn="l" pos="6156360"/>
                <a:tab algn="l" pos="6613560"/>
                <a:tab algn="l" pos="7070760"/>
                <a:tab algn="l" pos="7527960"/>
                <a:tab algn="l" pos="7985160"/>
                <a:tab algn="l" pos="8442360"/>
                <a:tab algn="l" pos="8899560"/>
                <a:tab algn="l" pos="935676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212760" indent="-2127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212760"/>
                <a:tab algn="l" pos="669960"/>
                <a:tab algn="l" pos="1127160"/>
                <a:tab algn="l" pos="1584360"/>
                <a:tab algn="l" pos="2041560"/>
                <a:tab algn="l" pos="2498760"/>
                <a:tab algn="l" pos="2955960"/>
                <a:tab algn="l" pos="3413160"/>
                <a:tab algn="l" pos="3870360"/>
                <a:tab algn="l" pos="4327560"/>
                <a:tab algn="l" pos="4784760"/>
                <a:tab algn="l" pos="5241960"/>
                <a:tab algn="l" pos="5699160"/>
                <a:tab algn="l" pos="6156360"/>
                <a:tab algn="l" pos="6613560"/>
                <a:tab algn="l" pos="7070760"/>
                <a:tab algn="l" pos="7527960"/>
                <a:tab algn="l" pos="7985160"/>
                <a:tab algn="l" pos="8442360"/>
                <a:tab algn="l" pos="8899560"/>
                <a:tab algn="l" pos="9356760"/>
                <a:tab algn="l" pos="9601200"/>
                <a:tab algn="l" pos="10058400"/>
                <a:tab algn="l" pos="105156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GENERAL: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the source is </a:t>
            </a:r>
            <a:r>
              <a:rPr b="1" lang="de-DE" sz="1800" spc="-1" strike="noStrike">
                <a:solidFill>
                  <a:srgbClr val="000000"/>
                </a:solidFill>
                <a:latin typeface="Verdana"/>
              </a:rPr>
              <a:t>at a greater distance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 from the body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12760" indent="-2127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12760"/>
                <a:tab algn="l" pos="669960"/>
                <a:tab algn="l" pos="1127160"/>
                <a:tab algn="l" pos="1584360"/>
                <a:tab algn="l" pos="2041560"/>
                <a:tab algn="l" pos="2498760"/>
                <a:tab algn="l" pos="2955960"/>
                <a:tab algn="l" pos="3413160"/>
                <a:tab algn="l" pos="3870360"/>
                <a:tab algn="l" pos="4327560"/>
                <a:tab algn="l" pos="4784760"/>
                <a:tab algn="l" pos="5241960"/>
                <a:tab algn="l" pos="5699160"/>
                <a:tab algn="l" pos="6156360"/>
                <a:tab algn="l" pos="6613560"/>
                <a:tab algn="l" pos="7070760"/>
                <a:tab algn="l" pos="7527960"/>
                <a:tab algn="l" pos="7985160"/>
                <a:tab algn="l" pos="8442360"/>
                <a:tab algn="l" pos="8899560"/>
                <a:tab algn="l" pos="935676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12760" indent="-2127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212760"/>
                <a:tab algn="l" pos="669960"/>
                <a:tab algn="l" pos="1127160"/>
                <a:tab algn="l" pos="1584360"/>
                <a:tab algn="l" pos="2041560"/>
                <a:tab algn="l" pos="2498760"/>
                <a:tab algn="l" pos="2955960"/>
                <a:tab algn="l" pos="3413160"/>
                <a:tab algn="l" pos="3870360"/>
                <a:tab algn="l" pos="4327560"/>
                <a:tab algn="l" pos="4784760"/>
                <a:tab algn="l" pos="5241960"/>
                <a:tab algn="l" pos="5699160"/>
                <a:tab algn="l" pos="6156360"/>
                <a:tab algn="l" pos="6613560"/>
                <a:tab algn="l" pos="7070760"/>
                <a:tab algn="l" pos="7527960"/>
                <a:tab algn="l" pos="7985160"/>
                <a:tab algn="l" pos="8442360"/>
                <a:tab algn="l" pos="8899560"/>
                <a:tab algn="l" pos="9356760"/>
                <a:tab algn="l" pos="9601200"/>
                <a:tab algn="l" pos="10058400"/>
                <a:tab algn="l" pos="105156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Wrapping after the therapy (an independent procedure)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12760" indent="-2127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12760"/>
                <a:tab algn="l" pos="669960"/>
                <a:tab algn="l" pos="1127160"/>
                <a:tab algn="l" pos="1584360"/>
                <a:tab algn="l" pos="2041560"/>
                <a:tab algn="l" pos="2498760"/>
                <a:tab algn="l" pos="2955960"/>
                <a:tab algn="l" pos="3413160"/>
                <a:tab algn="l" pos="3870360"/>
                <a:tab algn="l" pos="4327560"/>
                <a:tab algn="l" pos="4784760"/>
                <a:tab algn="l" pos="5241960"/>
                <a:tab algn="l" pos="5699160"/>
                <a:tab algn="l" pos="6156360"/>
                <a:tab algn="l" pos="6613560"/>
                <a:tab algn="l" pos="7070760"/>
                <a:tab algn="l" pos="7527960"/>
                <a:tab algn="l" pos="7985160"/>
                <a:tab algn="l" pos="8442360"/>
                <a:tab algn="l" pos="8899560"/>
                <a:tab algn="l" pos="935676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12760" indent="-2127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12760"/>
                <a:tab algn="l" pos="669960"/>
                <a:tab algn="l" pos="1127160"/>
                <a:tab algn="l" pos="1584360"/>
                <a:tab algn="l" pos="2041560"/>
                <a:tab algn="l" pos="2498760"/>
                <a:tab algn="l" pos="2955960"/>
                <a:tab algn="l" pos="3413160"/>
                <a:tab algn="l" pos="3870360"/>
                <a:tab algn="l" pos="4327560"/>
                <a:tab algn="l" pos="4784760"/>
                <a:tab algn="l" pos="5241960"/>
                <a:tab algn="l" pos="5699160"/>
                <a:tab algn="l" pos="6156360"/>
                <a:tab algn="l" pos="6613560"/>
                <a:tab algn="l" pos="7070760"/>
                <a:tab algn="l" pos="7527960"/>
                <a:tab algn="l" pos="7985160"/>
                <a:tab algn="l" pos="8442360"/>
                <a:tab algn="l" pos="8899560"/>
                <a:tab algn="l" pos="935676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DE" sz="2800" spc="-1" strike="noStrike">
                <a:solidFill>
                  <a:srgbClr val="f0000c"/>
                </a:solidFill>
                <a:latin typeface="Verdana"/>
              </a:rPr>
              <a:t>INJURIES CAUSED BY IR EFFEC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5" name="Text Box 2"/>
          <p:cNvSpPr/>
          <p:nvPr/>
        </p:nvSpPr>
        <p:spPr>
          <a:xfrm>
            <a:off x="457200" y="1484280"/>
            <a:ext cx="814392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34800" indent="-334800">
              <a:lnSpc>
                <a:spcPct val="1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atarac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during long eye exposure to IR radiation;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protective glasse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avoding looking directly at the sourc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Burn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979560" indent="-274680">
              <a:lnSpc>
                <a:spcPct val="100000"/>
              </a:lnSpc>
              <a:spcBef>
                <a:spcPts val="550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Microsoft YaHei"/>
              </a:rPr>
              <a:t>Hypesthesis in neurological diseases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2" marL="979560" indent="-274680">
              <a:lnSpc>
                <a:spcPct val="100000"/>
              </a:lnSpc>
              <a:spcBef>
                <a:spcPts val="550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Microsoft YaHei"/>
              </a:rPr>
              <a:t>Inadequate lamp handling (direct contact with the skin)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DE" sz="2800" spc="-1" strike="noStrike">
                <a:solidFill>
                  <a:srgbClr val="f0000c"/>
                </a:solidFill>
                <a:latin typeface="Verdana"/>
              </a:rPr>
              <a:t>INDICATION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7" name="Text Box 2"/>
          <p:cNvSpPr/>
          <p:nvPr/>
        </p:nvSpPr>
        <p:spPr>
          <a:xfrm>
            <a:off x="457200" y="1484280"/>
            <a:ext cx="814392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34800" indent="-334800">
              <a:lnSpc>
                <a:spcPct val="100000"/>
              </a:lnSpc>
              <a:spcBef>
                <a:spcPts val="15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Introduction to e</a:t>
            </a:r>
            <a:r>
              <a:rPr b="0" lang="sr-Latn-CS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lectrostimulation, stable galvanization, electroforesis,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tractions</a:t>
            </a:r>
            <a:r>
              <a:rPr b="0" lang="sr-Latn-CS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, kryotherapy..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15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Verdana"/>
              </a:rPr>
              <a:t>Lesions of the PMN,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myalgia</a:t>
            </a:r>
            <a:r>
              <a:rPr b="0" lang="sr-Latn-CS" sz="22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neuralgia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15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Verdana"/>
              </a:rPr>
              <a:t>Post-traumatic conditions of the soft tissues </a:t>
            </a:r>
            <a:br>
              <a:rPr sz="2200"/>
            </a:br>
            <a:r>
              <a:rPr b="0" lang="sr-Latn-CS" sz="2200" spc="-1" strike="noStrike">
                <a:solidFill>
                  <a:srgbClr val="000000"/>
                </a:solidFill>
                <a:latin typeface="Verdana"/>
              </a:rPr>
              <a:t>(after</a:t>
            </a:r>
            <a:r>
              <a:rPr b="1" lang="sr-Latn-CS" sz="2200" spc="-1" strike="noStrike">
                <a:solidFill>
                  <a:srgbClr val="000000"/>
                </a:solidFill>
                <a:latin typeface="Verdana"/>
              </a:rPr>
              <a:t> 48 h</a:t>
            </a:r>
            <a:r>
              <a:rPr b="0" lang="sr-Latn-CS" sz="22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15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Degenerative and extra-articular rheumatism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15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kin diseases (acne, furunculi</a:t>
            </a: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sr-Latn-CS" sz="2200" spc="-1" strike="noStrike">
                <a:solidFill>
                  <a:srgbClr val="000000"/>
                </a:solidFill>
                <a:latin typeface="Verdana"/>
              </a:rPr>
              <a:t> fungal disease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, herpes</a:t>
            </a:r>
            <a:r>
              <a:rPr b="0" lang="sr-Latn-CS" sz="2200" spc="-1" strike="noStrike">
                <a:solidFill>
                  <a:srgbClr val="000000"/>
                </a:solidFill>
                <a:latin typeface="Verdana"/>
              </a:rPr>
              <a:t>...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15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ecubitus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15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Pain after a tooth extraction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15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Frontal and maxillary sinusitis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DE" sz="2800" spc="-1" strike="noStrike">
                <a:solidFill>
                  <a:srgbClr val="f0000c"/>
                </a:solidFill>
                <a:latin typeface="Verdana"/>
              </a:rPr>
              <a:t>CONTRAINDICATION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9" name="Text Box 2"/>
          <p:cNvSpPr/>
          <p:nvPr/>
        </p:nvSpPr>
        <p:spPr>
          <a:xfrm>
            <a:off x="457200" y="1484280"/>
            <a:ext cx="814392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34800" indent="-334800">
              <a:lnSpc>
                <a:spcPct val="100000"/>
              </a:lnSpc>
              <a:spcBef>
                <a:spcPts val="24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ENERA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24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Acute skin and joint inflammat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24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tive tuberculosi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24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cclusive arterial diseas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24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kin anesthesia to thermal stimuli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24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Eczema, dermatitis..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Text Box 1"/>
          <p:cNvSpPr/>
          <p:nvPr/>
        </p:nvSpPr>
        <p:spPr>
          <a:xfrm>
            <a:off x="457200" y="9216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800"/>
            </a:br>
            <a:r>
              <a:rPr b="1" lang="sr-CS" sz="2800" spc="-1" strike="noStrike">
                <a:solidFill>
                  <a:srgbClr val="f0000c"/>
                </a:solidFill>
                <a:latin typeface="Verdana"/>
              </a:rPr>
              <a:t>DIAGNOSTIC USE OF IR RADIATI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1" name="Text Box 2"/>
          <p:cNvSpPr/>
          <p:nvPr/>
        </p:nvSpPr>
        <p:spPr>
          <a:xfrm>
            <a:off x="457200" y="1484280"/>
            <a:ext cx="814392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34800" indent="-334800">
              <a:lnSpc>
                <a:spcPct val="90000"/>
              </a:lnSpc>
              <a:spcBef>
                <a:spcPts val="55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Thermography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is photograph registration of the skin temperature - thermogram. It indicates the state of </a:t>
            </a:r>
            <a:r>
              <a:rPr b="0" lang="ru-RU" sz="2200" spc="-1" strike="noStrike" u="sng">
                <a:solidFill>
                  <a:srgbClr val="000000"/>
                </a:solidFill>
                <a:uFillTx/>
                <a:latin typeface="Verdana"/>
              </a:rPr>
              <a:t>circulation in the epidermis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— it depicts the condition of </a:t>
            </a:r>
            <a:r>
              <a:rPr b="1" i="1" lang="ru-RU" sz="2200" spc="-1" strike="noStrike">
                <a:solidFill>
                  <a:srgbClr val="000000"/>
                </a:solidFill>
                <a:latin typeface="Verdana"/>
              </a:rPr>
              <a:t>аrterial blood vessels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and </a:t>
            </a:r>
            <a:r>
              <a:rPr b="1" i="1" lang="ru-RU" sz="2200" spc="-1" strike="noStrike">
                <a:solidFill>
                  <a:srgbClr val="000000"/>
                </a:solidFill>
                <a:latin typeface="Verdana"/>
              </a:rPr>
              <a:t>flow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90000"/>
              </a:lnSpc>
              <a:spcBef>
                <a:spcPts val="55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Thermovision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— provides d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istribution of surface body </a:t>
            </a:r>
            <a:r>
              <a:rPr b="1" i="1" lang="ru-RU" sz="2200" spc="-1" strike="noStrike">
                <a:solidFill>
                  <a:srgbClr val="000000"/>
                </a:solidFill>
                <a:latin typeface="Verdana"/>
              </a:rPr>
              <a:t>temperature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in a short time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52" name="Picture 3" descr=""/>
          <p:cNvPicPr/>
          <p:nvPr/>
        </p:nvPicPr>
        <p:blipFill>
          <a:blip r:embed="rId1"/>
          <a:stretch/>
        </p:blipFill>
        <p:spPr>
          <a:xfrm>
            <a:off x="2563920" y="3429000"/>
            <a:ext cx="4343400" cy="1809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Text Box 1"/>
          <p:cNvSpPr/>
          <p:nvPr/>
        </p:nvSpPr>
        <p:spPr>
          <a:xfrm>
            <a:off x="531720" y="2924280"/>
            <a:ext cx="8361360" cy="13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HELIOTHERAP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" name="Line 2"/>
          <p:cNvSpPr/>
          <p:nvPr/>
        </p:nvSpPr>
        <p:spPr>
          <a:xfrm>
            <a:off x="531720" y="4292640"/>
            <a:ext cx="8143920" cy="1440"/>
          </a:xfrm>
          <a:prstGeom prst="line">
            <a:avLst/>
          </a:prstGeom>
          <a:ln cap="sq" w="38160">
            <a:solidFill>
              <a:srgbClr val="f0000c"/>
            </a:solidFill>
            <a:custDash>
              <a:ds d="100000" sp="1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20000"/>
              </a:lnSpc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CS" sz="2800" spc="-1" strike="noStrike">
                <a:solidFill>
                  <a:srgbClr val="f0000c"/>
                </a:solidFill>
                <a:latin typeface="Verdana"/>
              </a:rPr>
              <a:t>DIAGNOSTIC USE OF IR RADIATION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4" name="Text Box 2"/>
          <p:cNvSpPr/>
          <p:nvPr/>
        </p:nvSpPr>
        <p:spPr>
          <a:xfrm>
            <a:off x="457200" y="1844640"/>
            <a:ext cx="814392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4800" indent="-334800">
              <a:lnSpc>
                <a:spcPct val="15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frared photography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35120" indent="-277920">
              <a:lnSpc>
                <a:spcPct val="100000"/>
              </a:lnSpc>
              <a:spcBef>
                <a:spcPts val="550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  <a:ea typeface="Microsoft YaHei"/>
              </a:rPr>
              <a:t>Short IR rays directed at the skin show the state of the </a:t>
            </a:r>
            <a:r>
              <a:rPr b="1" i="1" lang="ru-RU" sz="2200" spc="-1" strike="noStrike">
                <a:solidFill>
                  <a:srgbClr val="000000"/>
                </a:solidFill>
                <a:latin typeface="Verdana"/>
                <a:ea typeface="Microsoft YaHei"/>
              </a:rPr>
              <a:t>venous system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  <a:ea typeface="Microsoft YaHei"/>
              </a:rPr>
              <a:t>(arterial blood vessels are not seen)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735120" indent="-277920">
              <a:lnSpc>
                <a:spcPct val="100000"/>
              </a:lnSpc>
              <a:spcBef>
                <a:spcPts val="2999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  <a:ea typeface="Microsoft YaHei"/>
              </a:rPr>
              <a:t>It is used for the diagnostics of the venous circulation in the mammary glands, circulation during gravidity and post-partum, venous circulation in portal hypertension..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0000c"/>
                </a:solidFill>
                <a:latin typeface="Verdana"/>
              </a:rPr>
              <a:t>HELIOTHERAP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6" name="Text Box 2"/>
          <p:cNvSpPr/>
          <p:nvPr/>
        </p:nvSpPr>
        <p:spPr>
          <a:xfrm>
            <a:off x="395280" y="1052640"/>
            <a:ext cx="8280360" cy="52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1280" indent="-334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1280" indent="-334800">
              <a:lnSpc>
                <a:spcPct val="1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nlight contains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35120" indent="-277920">
              <a:lnSpc>
                <a:spcPct val="100000"/>
              </a:lnSpc>
              <a:spcBef>
                <a:spcPts val="499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Verdana"/>
                <a:ea typeface="Microsoft YaHei"/>
              </a:rPr>
              <a:t>45-5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Microsoft YaHei"/>
              </a:rPr>
              <a:t>0% of IC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  <a:ea typeface="Microsoft YaHei"/>
              </a:rPr>
              <a:t>,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35120" indent="-277920">
              <a:lnSpc>
                <a:spcPct val="100000"/>
              </a:lnSpc>
              <a:spcBef>
                <a:spcPts val="499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Verdana"/>
                <a:ea typeface="Microsoft YaHei"/>
              </a:rPr>
              <a:t>48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Microsoft YaHei"/>
              </a:rPr>
              <a:t>% of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Microsoft YaHei"/>
              </a:rPr>
              <a:t>visible light</a:t>
            </a:r>
            <a:r>
              <a:rPr b="0" lang="sr-CS" sz="2000" spc="-1" strike="noStrike">
                <a:solidFill>
                  <a:srgbClr val="000000"/>
                </a:solidFill>
                <a:latin typeface="Verdana"/>
                <a:ea typeface="Microsoft YaHei"/>
              </a:rPr>
              <a:t>,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35120" indent="-277920">
              <a:lnSpc>
                <a:spcPct val="100000"/>
              </a:lnSpc>
              <a:spcBef>
                <a:spcPts val="499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Microsoft YaHei"/>
              </a:rPr>
              <a:t>1-3% of UV and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35120" indent="-277920">
              <a:lnSpc>
                <a:spcPct val="100000"/>
              </a:lnSpc>
              <a:spcBef>
                <a:spcPts val="499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Microsoft YaHei"/>
              </a:rPr>
              <a:t>2% of other ray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1280" indent="-334800">
              <a:lnSpc>
                <a:spcPct val="1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he effect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of the Sun depends on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35120" indent="-277920">
              <a:lnSpc>
                <a:spcPct val="100000"/>
              </a:lnSpc>
              <a:spcBef>
                <a:spcPts val="499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Microsoft YaHei"/>
              </a:rPr>
              <a:t>The seaso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35120" indent="-277920">
              <a:lnSpc>
                <a:spcPct val="100000"/>
              </a:lnSpc>
              <a:spcBef>
                <a:spcPts val="451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Microsoft YaHei"/>
              </a:rPr>
              <a:t>Part of the day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  <a:ea typeface="Microsoft YaHei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Microsoft YaHei"/>
              </a:rPr>
              <a:t>in the zenith its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Microsoft YaHei"/>
              </a:rPr>
              <a:t>intensity is about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  <a:ea typeface="Microsoft YaHei"/>
              </a:rPr>
              <a:t>30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Microsoft YaHei"/>
              </a:rPr>
              <a:t> times stronger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  <a:ea typeface="Microsoft YaHei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35120" indent="-277920">
              <a:lnSpc>
                <a:spcPct val="100000"/>
              </a:lnSpc>
              <a:spcBef>
                <a:spcPts val="499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Microsoft YaHei"/>
              </a:rPr>
              <a:t>Above-sea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35120" indent="-277920">
              <a:lnSpc>
                <a:spcPct val="100000"/>
              </a:lnSpc>
              <a:spcBef>
                <a:spcPts val="499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Microsoft YaHei"/>
              </a:rPr>
              <a:t>Thickness of the air layer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35120" indent="-277920">
              <a:lnSpc>
                <a:spcPct val="100000"/>
              </a:lnSpc>
              <a:spcBef>
                <a:spcPts val="499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Microsoft YaHei"/>
              </a:rPr>
              <a:t>Cloudines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35120" indent="-277920">
              <a:lnSpc>
                <a:spcPct val="100000"/>
              </a:lnSpc>
              <a:spcBef>
                <a:spcPts val="451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Microsoft YaHei"/>
              </a:rPr>
              <a:t>Air pollution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  <a:ea typeface="Microsoft YaHei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Microsoft YaHei"/>
              </a:rPr>
              <a:t>dust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  <a:ea typeface="Microsoft YaHei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Microsoft YaHei"/>
              </a:rPr>
              <a:t> smoke, soot, water steam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  <a:ea typeface="Microsoft YaHei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Microsoft YaHei"/>
              </a:rPr>
              <a:t> other particles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  <a:ea typeface="Microsoft YaHei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0000c"/>
                </a:solidFill>
                <a:latin typeface="Verdana"/>
              </a:rPr>
              <a:t>PHOTOSENSITIVIT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8" name="Text Box 2"/>
          <p:cNvSpPr/>
          <p:nvPr/>
        </p:nvSpPr>
        <p:spPr>
          <a:xfrm>
            <a:off x="457200" y="1484280"/>
            <a:ext cx="814392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4800" indent="-334800">
              <a:lnSpc>
                <a:spcPct val="100000"/>
              </a:lnSpc>
              <a:spcBef>
                <a:spcPts val="55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Local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nsitivity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skin of the chest, back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, abdomen and flexor sides of the extremities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dividual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nsitivity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gender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hysiological conditions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ge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egnancy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breast feeding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)</a:t>
            </a:r>
            <a:br>
              <a:rPr sz="1800"/>
            </a:br>
            <a:r>
              <a:rPr b="0" lang="ru-RU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igmentation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iseases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binism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M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)</a:t>
            </a:r>
            <a:br>
              <a:rPr sz="1800"/>
            </a:br>
            <a:r>
              <a:rPr b="0" lang="ru-RU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race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use of photosensitizers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ody region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  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0000c"/>
                </a:solidFill>
                <a:latin typeface="Verdana"/>
              </a:rPr>
              <a:t>PHYSIOLOGICAL SUN EFFECT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0" name="Text Box 2"/>
          <p:cNvSpPr/>
          <p:nvPr/>
        </p:nvSpPr>
        <p:spPr>
          <a:xfrm>
            <a:off x="457200" y="1413000"/>
            <a:ext cx="814392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34800" indent="-334800">
              <a:lnSpc>
                <a:spcPct val="100000"/>
              </a:lnSpc>
              <a:spcBef>
                <a:spcPts val="55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ment of immunobiological reaction of the organism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50000"/>
              </a:lnSpc>
              <a:spcBef>
                <a:spcPts val="55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Analgesic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50000"/>
              </a:lnSpc>
              <a:spcBef>
                <a:spcPts val="55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ment of the skin turgor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50000"/>
              </a:lnSpc>
              <a:spcBef>
                <a:spcPts val="55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creased exchange of gasses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50000"/>
              </a:lnSpc>
              <a:spcBef>
                <a:spcPts val="55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lance of the vegetative nervous system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50000"/>
              </a:lnSpc>
              <a:spcBef>
                <a:spcPts val="55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crease of the </a:t>
            </a:r>
            <a:r>
              <a:rPr b="1" lang="sr-Latn-CS" sz="2200" spc="-1" strike="noStrike">
                <a:solidFill>
                  <a:srgbClr val="000000"/>
                </a:solidFill>
                <a:latin typeface="Verdana"/>
              </a:rPr>
              <a:t>Hgb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 level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nd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blood elements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50000"/>
              </a:lnSpc>
              <a:spcBef>
                <a:spcPts val="55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roduction of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vitamin D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50000"/>
              </a:lnSpc>
              <a:spcBef>
                <a:spcPts val="55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ormalization of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Ca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nd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 P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 the tissues etc.</a:t>
            </a:r>
            <a:r>
              <a:rPr b="0" lang="sr-Latn-CS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0000c"/>
                </a:solidFill>
                <a:latin typeface="Verdana"/>
              </a:rPr>
              <a:t>DOSING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2" name="Text Box 2"/>
          <p:cNvSpPr/>
          <p:nvPr/>
        </p:nvSpPr>
        <p:spPr>
          <a:xfrm>
            <a:off x="250920" y="1484280"/>
            <a:ext cx="352908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4800" indent="-334800">
              <a:lnSpc>
                <a:spcPct val="1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nbathing scheme by Rollier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ximum 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3h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de effects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urn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keratoconjunctiviti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unstrok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ecancerous and cancerous lesion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73" name="Group 3"/>
          <p:cNvGrpSpPr/>
          <p:nvPr/>
        </p:nvGrpSpPr>
        <p:grpSpPr>
          <a:xfrm>
            <a:off x="4389480" y="1279440"/>
            <a:ext cx="4371840" cy="4753080"/>
            <a:chOff x="4389480" y="1279440"/>
            <a:chExt cx="4371840" cy="4753080"/>
          </a:xfrm>
        </p:grpSpPr>
        <p:pic>
          <p:nvPicPr>
            <p:cNvPr id="274" name="Picture 4" descr=""/>
            <p:cNvPicPr/>
            <p:nvPr/>
          </p:nvPicPr>
          <p:blipFill>
            <a:blip r:embed="rId1"/>
            <a:stretch/>
          </p:blipFill>
          <p:spPr>
            <a:xfrm>
              <a:off x="4389480" y="1279440"/>
              <a:ext cx="4295880" cy="475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Text Box 5"/>
            <p:cNvSpPr/>
            <p:nvPr/>
          </p:nvSpPr>
          <p:spPr>
            <a:xfrm>
              <a:off x="7010280" y="1484280"/>
              <a:ext cx="1293840" cy="40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5000"/>
                </a:lnSpc>
                <a:spcAft>
                  <a:spcPts val="1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Verdana"/>
                  <a:ea typeface="Calibri"/>
                </a:rPr>
                <a:t>D</a:t>
              </a:r>
              <a:r>
                <a:rPr b="0" lang="en-US" sz="1800" spc="-1" strike="noStrike">
                  <a:solidFill>
                    <a:srgbClr val="000000"/>
                  </a:solidFill>
                  <a:latin typeface="Verdana"/>
                  <a:ea typeface="Calibri"/>
                </a:rPr>
                <a:t> </a:t>
              </a:r>
              <a:r>
                <a:rPr b="0" lang="en-GB" sz="1800" spc="-1" strike="noStrike">
                  <a:solidFill>
                    <a:srgbClr val="000000"/>
                  </a:solidFill>
                  <a:latin typeface="Verdana"/>
                  <a:ea typeface="Calibri"/>
                </a:rPr>
                <a:t>a</a:t>
              </a:r>
              <a:r>
                <a:rPr b="0" lang="en-US" sz="1800" spc="-1" strike="noStrike">
                  <a:solidFill>
                    <a:srgbClr val="000000"/>
                  </a:solidFill>
                  <a:latin typeface="Verdana"/>
                  <a:ea typeface="Calibri"/>
                </a:rPr>
                <a:t> </a:t>
              </a:r>
              <a:r>
                <a:rPr b="0" lang="en-GB" sz="1800" spc="-1" strike="noStrike">
                  <a:solidFill>
                    <a:srgbClr val="000000"/>
                  </a:solidFill>
                  <a:latin typeface="Verdana"/>
                  <a:ea typeface="Calibri"/>
                </a:rPr>
                <a:t>y</a:t>
              </a:r>
              <a:r>
                <a:rPr b="0" lang="en-US" sz="1800" spc="-1" strike="noStrike">
                  <a:solidFill>
                    <a:srgbClr val="000000"/>
                  </a:solidFill>
                  <a:latin typeface="Verdana"/>
                  <a:ea typeface="Calibri"/>
                </a:rPr>
                <a:t> </a:t>
              </a:r>
              <a:r>
                <a:rPr b="0" lang="en-GB" sz="1800" spc="-1" strike="noStrike">
                  <a:solidFill>
                    <a:srgbClr val="000000"/>
                  </a:solidFill>
                  <a:latin typeface="Verdana"/>
                  <a:ea typeface="Calibri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8381880" y="2819520"/>
              <a:ext cx="379440" cy="230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5000"/>
                </a:lnSpc>
                <a:spcAft>
                  <a:spcPts val="1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Verdana"/>
                  <a:ea typeface="Calibri"/>
                </a:rPr>
                <a:t>Minutes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05T21:33:56Z</dcterms:created>
  <dc:creator>+++</dc:creator>
  <dc:description/>
  <dc:language>en-US</dc:language>
  <cp:lastModifiedBy>Nada Miklja</cp:lastModifiedBy>
  <dcterms:modified xsi:type="dcterms:W3CDTF">2023-09-26T09:23:30Z</dcterms:modified>
  <cp:revision>940</cp:revision>
  <dc:subject/>
  <dc:title>PowerPoint-Präsentation</dc:title>
</cp:coreProperties>
</file>